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FE4-0B82-4844-ADF5-A2BA15A4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5DE-406D-4718-AD52-DD245B72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15A-8763-4522-A9BA-C870B473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F34-2099-4D28-B45B-FE86CEDD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C2B2-8769-4F45-8AE0-79ECB015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A7AB-08B0-4555-AF9C-E0ACA851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1E9E-C37C-482E-826B-F7878A81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FB19-7F1A-4143-9421-EB45FF33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1C79-53BF-4FCB-9C5D-D8199674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062D-6390-4B9F-A81D-A37870FB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3646-FE4B-4F1A-874A-C61F18D5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80D8-88C2-479E-A0FD-361E8E94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AE95-7C87-4CF9-AC22-10B58A6C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7051-9216-42B1-A7DD-48AD1028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BA7F-5A60-4EC2-93A5-E2E62E47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28F5-E70A-412B-BE0D-EB64138D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F562-B82D-4EBA-BABC-B65A2EE2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D702-3909-4972-B761-BE896F54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44C8-84EF-4953-8ECF-E38103B5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1917-399C-4474-9932-30D7FCF2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CBC-3D50-4C1F-A72C-569E6956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2C5A-2EDF-4AB2-8515-1CAF7D47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CE6-03B8-498F-BFD9-79C5546A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DAAA-F671-4667-9D14-6225F162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319C-C019-4E8B-94EA-0F9D5A82B83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E005-FE12-4994-A25E-66E6849C33B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ccecff"/>
                </a:solidFill>
                <a:latin typeface="Times New Roman"/>
              </a:rPr>
              <a:t>Mere prevencije i mere prve pomoć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of. Biljana Koci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va klasa: deli se na dve potklase, ekstremno opasne i visoko opasne insekticidne supstanc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ruga klasa-srednje opasn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reća-malo opas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U odnosu na perzistentnost insekticidi se dele na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rlo perzistentne (biodegradabilnost više od 2 god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erzistentne (biodegradabilnost od pola godine do 2 godin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rednje perzistentne (biodegradabilnost od 1 do 6 meseci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alo perzistentne (biodegradabilnost do 1 mesec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Mere prevenci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e upotrebe insekticida treba detaljno pročitati upotstv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ristiti samo originalna pakovan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ko se koriste otrovi iz prve grupe otrova, osobve koje rukuju njima moraju da budu dobro edukova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toku rada paziti da ne dođe do prosipanja insketicida po kož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zbegvati udisan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ositi zaštitnu odeću i obuć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ristiti insekticid u preporučenim doza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eostalu količinu insekticida ne prosipati, već postupiti po preporuka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Prva pomo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atrovanog što pre izneti na čist vazdu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kinuti mu kontaminiranu odeć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ko je otrov unet preko usta (oralno), izazvati nagon na povraćanje i isprati želuda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ko je osoba u nesvesti ne sme se izazivati povraćanje niti davati nešto preko us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ko dođe do prestanka disanja, primeniti veštačko disan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ko je došlo do kontaminacije kože, isprati velikom količinom vode i sapu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atrovanom ne davati jaja, ricinus, ni alkoh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Što pre odvesti zatrovanog u zdravstvenu ustanov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Trovanja insekticidima i terapija</a:t>
            </a:r>
            <a:r>
              <a:rPr b="0" lang="sr-Latn-C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i organofosforni insekticidi imaju karakteristiku da inhibiraju reverzibilno ili ireverzibilno aktivnost holinesteraze krvi i tkiva enzima koji su uključeni u transmisiju nervnih impuls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Toksično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oksično dejstvo organofosfornih insekticida zavisi od puteva kojima prodiru u organizam čovek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naci trovanja najbrže se registruju pri respiratornom unošenju insekticida, posle</a:t>
            </a: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ekoliko minuta,pri oralnom unošenju posle 20 do 60 minuta, a perkutano posle 2 do 3 sat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Brzina trovanja zavisi od unete doz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zimanjem visokih doza (samoubistvo) trovanje nastupa posle nekoliko minuta a zatim i smr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zimanjem srednjih doza maksimum trovanja registruje se unutar 4 do 8 sat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zimanjem niskih doza maskimum trovanja nastupa za nekoliko dan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Znaci trovanja organofosfornim insekticidim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naci trovanja mogu biti: muskarinski, nikotinski i CNS efekti (od strane centralnog nervnog sistema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uskarinski efekti: usporen rad srca, kontrakcije crevnih i bronhijalnih mišića i salivacij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ikotinski simptomi: nemir, osećaj straha, vrtoglavica, ataksija, grčevi, depresija, pad krvnog pritiska, cijanoza i kom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Toksikologija insektici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Mogućnost trovanja insekticidima zavise od ekspozicije osobe i karakteristika samog insektici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o trovanja može doći kod osoba koje su profesionalno eksponirane, slučajno i namerno (samoubistvo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Prva pomo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puštanje prostorije, skidanje radne kontaminirane odeće, postavljanje u horizontalni položaj. Kontaminirani delovi kože peru se vodom i sapunom ili 5% rastvorom NaHCO3. Oči se ispiraju 3% rastvorom NaHCO3, a zatim se u svako oko ukapaju po 1-2 kapi 1%rastvora homatropin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ko je otrov progutan, prvo se izaziva nagon na povraćanj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d posebnog je značaja ispiranje želuca 5% rastvorom NaHCO3, medicinskim ugljem (carbo animalis) i sa 25 grama natrijum-sulfat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avanje ricinusa je kontraindikovan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poredo sa preduzetim merama pristupa se atropinizacij. Daje se atropin sulfat kao specifični antidot, 3-3 mg odraslim osobama i 0,5 do 1 mg dec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tropin se može dati intramuskularno ili intravensk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ntidot-protivotro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tropin uklanja muskarinske efek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a uklanjanje nikotinskih efekata koriste se oksimi (Pralidoksim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Mere prevencije trovanj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a organofosfornim insekticidima mogu da rukuju samo dobro edukovane osob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rišćenje zaštitne opreme pri rad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i radnici bi trebalo da imaju skraćeno radno vreme (ne duže od 4 sata) i ispravne uređaj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d zaštitne opreme obavezno je: čista radna odela, kombinezon, rukavice, čizme i respirator sa filterom A, A/St ili A/St Auer Atefilt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sobe koje su profesionalno eksponirane otrovima podležu redovnoj lekarskoj kontrol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Karakteristike insekticiden supstance</a:t>
            </a:r>
            <a:br>
              <a:rPr sz="4000"/>
            </a:b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od značaja za nastanak trovan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bl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čin prodora u organiz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čin prime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toja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tepen kumulativ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odorna mo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amorenost organizma, površina i težina te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oksičnost insekticida nije jednostavno definisat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no što je svojstveno toksičnim supstancama to je da u malim količinama narušavaju normalne funkcije organizma, izazivaju trovanje a nekada i sm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Za svojstvo toksičnosti bitni su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Doz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Koncentraci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Vreme ekspozici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Doz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Razlikuju se toksične i letalne doz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oksična doza je ona količina insekticida koja uneta u organizam izaziva akutnu intoksikaciju ali ne ismr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Letalna doza je ona količina insekticida koja uneta u organizam izaziva smr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Izražavaju se u mg/kg težine čoveka ili toplokrvnih životinj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rovanje može biti akutno-ako se odjednom unese toksična do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Hronično-ako se insekticid nagomilava (kumulativno trovanje</a:t>
            </a: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Letalna doz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rednost letalne doze (LD) izražava se u vidu srednje letalne doze (LD50) što predstavlja količinu otrova koja je dovoljna da izazove smrt 50% eksponiranih životinj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lasifikacija insekticida na osnovu toksičnosti nije izvršena u svetu na jedinstven nač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Veliki broj zemalja prihvata klasifikaciju Svetske zdravstvene organizacije , po kojoj postoj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9:34:42Z</dcterms:created>
  <dc:creator>Intel</dc:creator>
  <dc:description/>
  <dc:language>en-US</dc:language>
  <cp:lastModifiedBy>Intel</cp:lastModifiedBy>
  <dcterms:modified xsi:type="dcterms:W3CDTF">2011-01-25T11:13:30Z</dcterms:modified>
  <cp:revision>22</cp:revision>
  <dc:subject/>
  <dc:title>Mere prevencije i mere prve pomoć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