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96A-1A61-4252-8D08-E9CDEC88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73A-2C50-4317-AF7F-A940452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A35-29C9-404E-9CFB-BC67D9C6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CBD-A4E3-4ED5-8FF9-EEC4ABE0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6E96-3670-4AF5-B922-7E3DAA8F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5E37-7DD8-4D50-82C5-0853A3B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0E0A-FE0D-4825-9BF1-20233F5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8F42-B66E-450F-86D7-7F31CE44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E456-7D9C-4EEB-B957-FAC3A250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0938-788E-4E6A-A6DE-D597D2C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63E3-56F9-4F93-BE64-70C9C513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DF5C-71EF-4176-B0C5-22A36C17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35B0-909A-4EDE-B191-010B6E6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F64-0C85-40E3-BEB9-057DA91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8FB5-4955-426F-A66F-9B01926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7B47-6199-4946-83CB-AD1D3CE4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8E32-5A4B-46FA-8561-A964BC40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276-4B53-4FBC-95CA-E8E6D61C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47E-85E4-443C-A821-CA00C279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741-5B2E-4A38-8328-B759023B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566-88BF-4F7F-9F18-2DFDDF42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BB8-BB0D-4405-8E01-EBE307F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1D7-BE09-4B17-A653-5A2682E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27F9-33DB-46E4-98B4-036D2A7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87D8-B7D4-41A5-82ED-4D0E930C66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B5E1-EF1A-482B-A1E4-162CA5672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zinsek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stent dr Nataša Ranči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333399"/>
                </a:solidFill>
                <a:latin typeface="Times New Roman"/>
              </a:rPr>
              <a:t>Mere kojima se uskraćuju uslovi za razvoj i održavanja štetnih artropo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gracije iz ruralnih u urbane sredi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Stanovništvo donosi sanitarne i kulturološke navike koje pogoduju razvoju štetnih artropoda (gradnja nehigijenskih naselja, septičkih jama, otvorene kanalizacije, nehigijenske deponije)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U urbanoj sredini uslovi za razvoj štetnih artropoda mogu da nastanu kao posledica: neplanskog zbrinjavanja ispustnih voda, neurešenosti vodotokova, neodržavanja kupališta, grešaka u gradi objekata i infrastruk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Ublažavanjem ili trajnim uklanjanjem ovih nedostataka utiče se na brojnost artropoda, a ako se u dužem vremenu sprovode te mere mogu da se potpuno odstr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Times New Roman"/>
              </a:rPr>
              <a:t>Mere kojima se uskraćuju uslovi za kontakt sa izvorom hra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Postoje vrste koje se hrane isključivo biljnom hranom (biljne vaši, mužjaci komaraca), vrste koje se hrane biljnim produktima ( moljci, žišci), i biljnim i životinjskim materijama u raspadanju (muve) i vrste koje se hrane krvlju (komarci, buve, vaši, stenice, krpelji, flebotomine, neke vrste muva..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Među skladištnim štetočinama postoje vrste koje su polifagne, za ishranu koriste i žitarice, bilju i životinjsku hranu, u nedostatku i drvo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One koje se hrane krvlju-komarci prema vrsti domaćina-zoofilne i antropofil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tode dezinsekci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an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zič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loš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mij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han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im sredstvima uništava ju se insekti, menja im se sredina za razvoj I održavanje I ne zagđuje se životna sred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ekat ovih sredstava je ogranič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prinose smanjivanju broja artropo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išćenje, pranje, mlatilice, klopke, mreže, češljevi za depedikulaci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dikulacija-uništavanje vaš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zič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češće se koriste sledeća fizička sredstva:plamen, iskuvavanje, vodena para i suva toplo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va sredstva imaju prednosti I m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men: uništavanje bezvrednih predmeta, otpadak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kuvavanje je efikasno 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jali koji ga mogu podne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erijali od kože, svile, vune, gume ne mogu se iskuva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dena para je najpoznatije fizičko sredstvo za suzbijanje vektora pegavca (vaši tela) u I I II svetskom ra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finici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edstavlja skup mera i postupaka za uništavanje zglavkara, najčešće insekata, izvora i vektora transmisivnih zaraznih bolesti, kao i drugih štetnih insekata od medicinskog i higijenskog znača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štavanje vašiju I gnjida postiže se vodenom parom na temperaturi od 65 stepeni za 5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većanje vremena ekspozicije I temerature povećava se efekat p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 sme se izlagati ode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 rublje koje je zaprljano krvlj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znato je srpsko ili partizansko b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drveno bure, poklopac, odeća, izbušeno dno bureta, kazan sa vod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benzinsko bure, drveni poklopac, letvice ili granje za zaštitu odeće od zagrejanog zida bureta, odeća, rešetka, vo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zinsekcija suvom toplotom obavlja se u aparatima koji mogu da izdrže razvoj visoke temerature (pegl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ogu da budu I prostorije/objekti koji mogu da izdrže visoku temeraturu: pekare, komore, sušnice voć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kspozicija-izlaganje suvoj toploti iznosi 30 minu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ao komore mogu se upotrebljavati sve zatvorene prostorije u kojima se temperatura vazduha može zagrejati između 80 i 100 stepen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gu da budu pokretne I nepokret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dzemne komore-zemljanke. Greju se pomoću peći spol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s se za dezinsekciju suvom toplotom  najviše koristi peg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 bi se uništile vaši i gnjide (vaš glave, vaš tela) moraju da se peglaju šavovi odeće sa nalič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o mogu da se unište I jaja moljaca I mu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iska temp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je dala zadovoljavajuće efekte, zato što ih artropode dobro podno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loška sredst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atori, nematode, gljive, bakterije, virusi, alge i više bilj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 predatora najviše se koriste neke vrste riba u suzbijanju komaraca, zato što se hrane larvama komara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rišćene su u eradikaciji malarije u Izraelu, Turskoj, Grčkoj, Maroku, Alžiru, Rus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makedoniji nije bilo rezultata, ali bilo je vrlo uspešno u oblasti Istre I Kvarnera. Niske temperature vode, jezera u Makedo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 preporučuje se istovremena upotreba riba I insektici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mijska sredst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torija razvoja I upotrebe insektici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dvajaju se četiri perio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vi-primena prirodnih produk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jduže je trajao ovaj period od 90. godine do 184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jviše su se upotrebljavale biljke-kukurek biljni produkti: nikotin i terpent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eralna ulj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seni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i period-fumiganti, neorganske komponente I naftni deriva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jao je od 1854 do 193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ovom periodu je sintetizovan DDT (Zeindler, 1874. godin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ali su primenu ugljen disulfid, cijanovodonična kiselina, arsenati, produkti naf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Znača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prečavanje i suzbijanje transmisivnih zaraznih bolest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Times New Roman"/>
              </a:rPr>
              <a:t>Borba protiv vektora-prenosilaca uzročnika transmisivnih zaraznih bole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ći period-moderni sintetski insekticid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d 1925 do 1962. god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jviše sintetizovano različitih organo hlornih, organo fosfornih jedinjenja. Većina se I danas korist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Četvrti period-hormoni I feromoni. Od 1967 I danas tra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dela insekticida prema porekl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ljn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tetski insekticidi ne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tetski insekticidi organskog porek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ljni insektici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kot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retr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baz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ten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etski insekticidi ne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dinjenja arsena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ž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ntetski insekticidi organskog porek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as najbrojni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a hemijskom poreklu dele se n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ohlorna, organofosforna, karbamatska, piretroidna, fumigantska, tiocijanatska, nitrofenolna, organsko-fluor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stance slične insekticidima ili pojačavaju njihovo dejst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atori, atraktanti, repelenti, nosači insekticida, regulatori rasta, infibitori sinteze hit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Podela prema načinu delovanja odnosno prodora u organizam insek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estivno, respiratorno (inhalaciono) i kontaktno dejst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estivno dejstvo ispoljava se kada insekticid prodre u organizam hranom ili vodo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mci pripremljeni sa atraktant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dinjenja fluora, arsena, organofosforna jedinjenja, soli borne kise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 praksi insekticidi imaju kombinovano dejstvo (2) ili sva tri dejst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taktno dejstvo-kontakt tela insekta I podloge na kojoj je aplikovan insektic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ofosforna jedinjenja, organo-hlorna, piretroidska jedinjenja I karbamatska jedinje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iratorno (inhalaciono) preko disajnih org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kticidi iz ove grupe predstavljaju najjače otrove I njihova upotreba je ogranič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jan-vodonik, ugljen-dioksid, sumpor-diokdid, naftalin, etilen-oksi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ože da bude profilaktička mera i protivepidemijska m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ema našim zakonskim propisima dezinsekcija se vrši pri pojavi: pegavog tifusa, povratne groznice, kuge, malarije, vašiljvosti tela, zaraznog proliva (samo u slučaju pojave epidemije) i salmoneloz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lici insekticid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šiva, rastvori, emulzije, suspenzije, granule, tablete, mamci, paste, aerosoli i štapići za dimljenj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provodi se dezinsekcija ličnih predmeta, stambenih i drugih prostorija i prevoznih sredstav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U slučaju pojave malarije sprovodi se i dezinsekcija naselja i okoline nasel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Zbog razvoja rezistencije artropoda potreban je planski  pristup u rešavanju suzbijanja štetnih artropoda uz korišćenje svih raspoloživ resursa pre primene hemijskih sredsta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Zdravstveno-vaspitni r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Mere kojima se uskraćuju uslovi za razvoj i održavanje štetnih artropoda u prirod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Mere kojima se uskraćuju uslovi za kontakt artropoda sa izvorom hra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333399"/>
                </a:solidFill>
                <a:latin typeface="Tahoma"/>
              </a:rPr>
              <a:t>Zdravstveno-vaspitni r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ahoma"/>
              </a:rPr>
              <a:t>Upoznati stanovništvo sa osnovnim karakteristikama vrste koja se suzbija, štetom koja nastaje njenim prisustvom u poljoprivredi i veterini, sa bolešću koju može širiti na tom prostoru, pa i ši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Da stanovništvo shvati problem i da se aktivno uključi u njegovo rešavanj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Sredstva javnog informisanj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ahoma"/>
              </a:rPr>
              <a:t>Svojim prisustvom čovek doprinosi izmeni staništa velikom broju vrsta. Neke se povlače i adaptiraju na zatvorene prostore, povremeno (skladišta) ili stalno (žuti mravi, bubašvabe, stenice, neke vrste komaraca), ajedan broj ima razvijen i fakultativno-obligatni način življenja (krpelji, vaši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0:12:54Z</dcterms:created>
  <dc:creator>AZURE</dc:creator>
  <dc:description/>
  <dc:language>en-US</dc:language>
  <cp:lastModifiedBy>Intel</cp:lastModifiedBy>
  <dcterms:modified xsi:type="dcterms:W3CDTF">2011-11-16T06:59:00Z</dcterms:modified>
  <cp:revision>19</cp:revision>
  <dc:subject/>
  <dc:title>Dezinsekcija</dc:title>
</cp:coreProperties>
</file>