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7EADB-6300-416D-9EFA-352479D9A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A52B-01C7-4FF1-821C-DBD0AECB5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80BB0-1542-48B3-B319-306745AF2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4BC6D-876C-476A-949C-86317EB3B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FA130-F6F2-40B3-A6F8-BBB07B2A3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99847-9505-4EB5-942F-E5CD701A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ECE59-373A-4EA8-BCF8-A19CD0A63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9DDA0-054D-4AF0-9115-134683F6B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10EED-102E-4303-8D41-8DFA52AD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8B66-797F-4450-968E-8F2B9990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C17F7-BA23-406F-A484-2A239F40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9917-E8BC-4A1B-9C88-DDE8415F5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7C67-C955-44EA-8C19-8C974E703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4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DERATI</a:t>
            </a:r>
            <a:r>
              <a:rPr b="0" lang="sr-Latn-CS" sz="4400" spc="-1" strike="noStrike">
                <a:solidFill>
                  <a:srgbClr val="ffff00"/>
                </a:solidFill>
                <a:latin typeface="Tahoma"/>
              </a:rPr>
              <a:t>ZACIJA</a:t>
            </a:r>
            <a:br>
              <a:rPr sz="4400"/>
            </a:br>
            <a:br>
              <a:rPr sz="2800"/>
            </a:br>
            <a:r>
              <a:rPr b="0" lang="sr-Latn-CS" sz="2800" spc="-1" strike="noStrike">
                <a:solidFill>
                  <a:srgbClr val="ffff00"/>
                </a:solidFill>
                <a:latin typeface="Arial"/>
              </a:rPr>
              <a:t>GLODARI I NJIHOV EPIDEMIOLOŠKI ZNAČAJ</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4648320"/>
            <a:ext cx="6400800" cy="76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ff00"/>
                </a:solidFill>
                <a:latin typeface="Tahoma"/>
              </a:rPr>
              <a:t>Prof. dr</a:t>
            </a:r>
            <a:r>
              <a:rPr b="0" lang="sr-Latn-CS" sz="3200" spc="-1" strike="noStrike">
                <a:solidFill>
                  <a:srgbClr val="ffff00"/>
                </a:solidFill>
                <a:latin typeface="Tahoma"/>
              </a:rPr>
              <a:t> Zoran Veličk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0" name="PlaceHolder 2"/>
          <p:cNvSpPr>
            <a:spLocks noGrp="1"/>
          </p:cNvSpPr>
          <p:nvPr>
            <p:ph/>
          </p:nvPr>
        </p:nvSpPr>
        <p:spPr>
          <a:xfrm>
            <a:off x="456840" y="2286000"/>
            <a:ext cx="8001000" cy="3276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Po svojim osobinama (lukavstvo, radoznalost, snalažljivost, velika moć razmnožavanja, opreznost, sposobnost asocijacije, izvanredno razvijen njuh i pokretljivost) pacov zauzima jedno od prvih mesta među neprijateljima čove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br>
              <a:rPr sz="2800"/>
            </a:br>
            <a:r>
              <a:rPr b="0" lang="en-US" sz="2800" spc="-1" strike="noStrike">
                <a:solidFill>
                  <a:srgbClr val="ffff00"/>
                </a:solidFill>
                <a:latin typeface="Tahoma"/>
                <a:ea typeface="Tahoma"/>
              </a:rPr>
              <a:t>Antikoagulanti nove (druge) generacije</a:t>
            </a:r>
            <a:endParaRPr b="0" lang="en-US" sz="2800" spc="-1" strike="noStrike">
              <a:solidFill>
                <a:srgbClr val="000000"/>
              </a:solidFill>
              <a:latin typeface="Arial"/>
            </a:endParaRPr>
          </a:p>
        </p:txBody>
      </p:sp>
      <p:sp>
        <p:nvSpPr>
          <p:cNvPr id="239"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java rezistencije na antikoagulante prve generacije, značajno su uticali na uspeh deratizacije. Međutim, sintetisanjem novih antikoagulanata na bazi hidroksikumarina (preko 20) u velikom je stepenu širenje rezistencije, bar za sada, umanjeno.</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ćina ovih rodenticida u stanju je da u koncentraciji u mamcu od svega 0,002 do 0,005% izazove uginuće rezistentnih jedinki sivog pacova u iznosu od 100%. Neka njihova halogena jedinjenja daju mortalitet od 100% i u koncentraciji od 0,0005% u mamcu.</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iroku primenu imaju: Difenakum, Brodifakum, Bromadiolon i Flokumafen.</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Fumigantni rodenticidi</a:t>
            </a:r>
            <a:endParaRPr b="0" lang="en-US" sz="2800" spc="-1" strike="noStrike">
              <a:solidFill>
                <a:srgbClr val="000000"/>
              </a:solidFill>
              <a:latin typeface="Arial"/>
            </a:endParaRPr>
          </a:p>
        </p:txBody>
      </p:sp>
      <p:sp>
        <p:nvSpPr>
          <p:cNvPr id="241"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ćina ovih preparata je toksična za insekte, ektoparazite glodare, glodare, čoveka i druge toplokrvne životinje. Kroz vazduh se šire brzo i prodiru u sve pukotine i pore različitih materijala. Ova sredstva se primenjuju u objektima ili delovima istih koji se mogu hermetizovati ili pak u suzbijanju glodara u njihovim podzemnim hodnicima.</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našoj zemlji najčešće se koriste sledeći fumiganti:</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cijanovodonična kiselina, fosforvodonik, ugljendisulfid, metilbromid i hlorpikrin.</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4. Hemosterilanti</a:t>
            </a:r>
            <a:endParaRPr b="0" lang="en-US" sz="2800" spc="-1" strike="noStrike">
              <a:solidFill>
                <a:srgbClr val="000000"/>
              </a:solidFill>
              <a:latin typeface="Arial"/>
            </a:endParaRPr>
          </a:p>
        </p:txBody>
      </p:sp>
      <p:sp>
        <p:nvSpPr>
          <p:cNvPr id="243" name=""/>
          <p:cNvSpPr txBox="1"/>
          <p:nvPr/>
        </p:nvSpPr>
        <p:spPr>
          <a:xfrm>
            <a:off x="380520" y="1600200"/>
            <a:ext cx="8458200" cy="4525920"/>
          </a:xfrm>
          <a:prstGeom prst="rect">
            <a:avLst/>
          </a:prstGeom>
          <a:noFill/>
          <a:ln w="0">
            <a:noFill/>
          </a:ln>
        </p:spPr>
        <p:txBody>
          <a:bodyPr anchor="t">
            <a:normAutofit fontScale="83000"/>
          </a:bodyPr>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i preparati su u stanju da regulišu proces reprodukcije u smislu njegovog privremenog ili trajnog zaustavljanj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relativno nov i siguran prilaz kontroli brojnosti štetnih glodara bitno će izmeniti način regulisanja brojnosti njihovih populacija, kako u odnosu na onaj sa povećanim mortalitetom primenom akutnih i antikoagulantnih kumulativnih rodenticida tako i u odnosu na način kontrole nataliteta pomoću hemosterilanat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I PRIMENE RODENTICIDA</a:t>
            </a:r>
            <a:endParaRPr b="0" lang="en-US" sz="2800" spc="-1" strike="noStrike">
              <a:solidFill>
                <a:srgbClr val="000000"/>
              </a:solidFill>
              <a:latin typeface="Arial"/>
            </a:endParaRPr>
          </a:p>
        </p:txBody>
      </p:sp>
      <p:sp>
        <p:nvSpPr>
          <p:cNvPr id="245" name=""/>
          <p:cNvSpPr txBox="1"/>
          <p:nvPr/>
        </p:nvSpPr>
        <p:spPr>
          <a:xfrm>
            <a:off x="380520" y="1600200"/>
            <a:ext cx="8458200" cy="4525920"/>
          </a:xfrm>
          <a:prstGeom prst="rect">
            <a:avLst/>
          </a:prstGeom>
          <a:noFill/>
          <a:ln w="0">
            <a:noFill/>
          </a:ln>
        </p:spPr>
        <p:txBody>
          <a:bodyPr anchor="t">
            <a:normAutofit fontScale="85000"/>
          </a:bodyPr>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imena zatrovanih mamaca je najzastupljenija. Svrha primene mamaca je da se otrov “kamuflira”, tj. da se prikriju neke njegove negativne fizičke i druge osobenosti (neprijatan miris i ukus).</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uspeh deratizacije je vrlo važan izbor preparata ali i izbor hranljive podloge mamaca i pojedinih dodataka kao atraktanata.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47" name=""/>
          <p:cNvSpPr txBox="1"/>
          <p:nvPr/>
        </p:nvSpPr>
        <p:spPr>
          <a:xfrm>
            <a:off x="380520" y="1600200"/>
            <a:ext cx="8458200" cy="4525920"/>
          </a:xfrm>
          <a:prstGeom prst="rect">
            <a:avLst/>
          </a:prstGeom>
          <a:noFill/>
          <a:ln w="0">
            <a:noFill/>
          </a:ln>
        </p:spPr>
        <p:txBody>
          <a:bodyPr anchor="t">
            <a:normAutofit fontScale="82000"/>
          </a:bodyPr>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tručne ekipe deratizera moraju znati koja vrsta glodara je predmet susbijanja, njihovu brojnost tj. gustinu populacije, zatim njihovu biologiju i ekologiju.</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ophodno je znati koju vrstu preparata možemo koristiti, njegovu zastupljenost u mamcu, količinu mamca, način izlaganja zatrovanih mamaca itd.</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49" name=""/>
          <p:cNvSpPr txBox="1"/>
          <p:nvPr/>
        </p:nvSpPr>
        <p:spPr>
          <a:xfrm>
            <a:off x="380520" y="1600200"/>
            <a:ext cx="8458200" cy="4525920"/>
          </a:xfrm>
          <a:prstGeom prst="rect">
            <a:avLst/>
          </a:prstGeom>
          <a:noFill/>
          <a:ln w="0">
            <a:noFill/>
          </a:ln>
        </p:spPr>
        <p:txBody>
          <a:bodyPr anchor="t">
            <a:normAutofit fontScale="74000"/>
          </a:bodyPr>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snovno načelo pri izlaganju antikoagulantnih mamaca je da se postavljaju u količini koja obezbeđuje višekratno i višednevno kontinuirano konzumiranje od strane glodara.</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eriod izloženosti može trajati i do 4 nedelje.</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trovane mamce ne treba postavljati na mesta sa kojih postoji mogućnost da budu pomerani ili odneti od strane čoveka ili domaće životinje.</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avljeni mamci moraju biti prikriveni u izvesnim slučajevima</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1"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toku noći jedinke kućnog miša konzumiraju hranu sa većeg broja mesta (i preko 20). Zato se mamci postavljaju na što veći broj mesta u količini ne većoj od 10 gr. ili dvostruko manje ako sadrže trenutni otrov.</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3" name=""/>
          <p:cNvSpPr txBox="1"/>
          <p:nvPr/>
        </p:nvSpPr>
        <p:spPr>
          <a:xfrm>
            <a:off x="380520" y="1600200"/>
            <a:ext cx="8458200" cy="4525920"/>
          </a:xfrm>
          <a:prstGeom prst="rect">
            <a:avLst/>
          </a:prstGeom>
          <a:noFill/>
          <a:ln w="0">
            <a:noFill/>
          </a:ln>
        </p:spPr>
        <p:txBody>
          <a:bodyPr anchor="t">
            <a:normAutofit fontScale="73000"/>
          </a:bodyPr>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da je u pitanju suzbijanje populacije sivog pacova način njihovog izlaganja je nešto je nešto drugačiji. Zastupljenost aktivne supstance u mamcu je za 30 do 50% manja, količina mamca po mestu izlaganja iznosi od 100 do 200 gr., a broj mesta je 3 do 5, najviše 10 na       100 m</a:t>
            </a:r>
            <a:r>
              <a:rPr b="0" lang="en-US" sz="2400" spc="-1" strike="noStrike" baseline="30000">
                <a:solidFill>
                  <a:srgbClr val="ffffff"/>
                </a:solidFill>
                <a:latin typeface="Tahoma"/>
                <a:ea typeface="Tahoma"/>
              </a:rPr>
              <a:t>2</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o i kod kućnog miša utvrđena mesta na kojima se najčešće hrane jedinke sivog pacova, zatim ustaljene staze kretanja i aktivne rupe, predstavljaće i glavne punktove na kojima će se izvršiti postavljanje zatrovanih mamaca.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5" name=""/>
          <p:cNvSpPr txBox="1"/>
          <p:nvPr/>
        </p:nvSpPr>
        <p:spPr>
          <a:xfrm>
            <a:off x="380520" y="1600200"/>
            <a:ext cx="8458200" cy="4525920"/>
          </a:xfrm>
          <a:prstGeom prst="rect">
            <a:avLst/>
          </a:prstGeom>
          <a:noFill/>
          <a:ln w="0">
            <a:noFill/>
          </a:ln>
        </p:spPr>
        <p:txBody>
          <a:bodyPr anchor="t">
            <a:normAutofit fontScale="67000"/>
          </a:bodyPr>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e dve mogućnosti ili načina postavljanja mamaca namenjenih suzbijanju populaciji sivog pacova ali i drugih mišolikih glodar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a je tehnika postavljanja tzv. </a:t>
            </a:r>
            <a:r>
              <a:rPr b="1" lang="en-US" sz="2400" spc="-1" strike="noStrike">
                <a:solidFill>
                  <a:srgbClr val="ffffff"/>
                </a:solidFill>
                <a:latin typeface="Tahoma"/>
                <a:ea typeface="Tahoma"/>
              </a:rPr>
              <a:t>udarnih mamaca</a:t>
            </a:r>
            <a:r>
              <a:rPr b="0" lang="en-US" sz="2400" spc="-1" strike="noStrike">
                <a:solidFill>
                  <a:srgbClr val="ffffff"/>
                </a:solidFill>
                <a:latin typeface="Tahoma"/>
                <a:ea typeface="Tahoma"/>
              </a:rPr>
              <a:t>.</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 početku akcije se izlažu mnogo manje količine mamaca od uobičajenih. Njih će pretežno konzumirati u koloniji ili populaciji dominantne jedinke i otrovati se. U sledećem “talasu” postavljanja, mamce će jesti životinje koje nisu jele ili su nedovoljno konzumirale.</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postupak se nastavlja sve do postizanja najvećeg procenta uginuć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7"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a mogućnost je postavljanje tzv. </a:t>
            </a:r>
            <a:r>
              <a:rPr b="1" lang="en-US" sz="2400" spc="-1" strike="noStrike">
                <a:solidFill>
                  <a:srgbClr val="ffffff"/>
                </a:solidFill>
                <a:latin typeface="Tahoma"/>
                <a:ea typeface="Tahoma"/>
              </a:rPr>
              <a:t>opsežnih mamaca </a:t>
            </a:r>
            <a:r>
              <a:rPr b="0" lang="en-US" sz="2400" spc="-1" strike="noStrike">
                <a:solidFill>
                  <a:srgbClr val="ffffff"/>
                </a:solidFill>
                <a:latin typeface="Tahoma"/>
                <a:ea typeface="Tahoma"/>
              </a:rPr>
              <a:t>na što je moguće većoj površini.</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akvim načinom se povećava mogućnost trovanja velikog broja jedinki i značajno se umanjuje naseljavanje glodara na tretiranom području.</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2" name="PlaceHolder 2"/>
          <p:cNvSpPr>
            <a:spLocks noGrp="1"/>
          </p:cNvSpPr>
          <p:nvPr>
            <p:ph/>
          </p:nvPr>
        </p:nvSpPr>
        <p:spPr>
          <a:xfrm>
            <a:off x="456840" y="2057400"/>
            <a:ext cx="8001000" cy="3657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Mišoliki glodari se </a:t>
            </a:r>
            <a:r>
              <a:rPr b="1" lang="sr-Latn-CS" sz="2400" spc="-1" strike="noStrike">
                <a:solidFill>
                  <a:srgbClr val="ffffff"/>
                </a:solidFill>
                <a:latin typeface="Tahoma"/>
              </a:rPr>
              <a:t>odlikuju visokim potencijalom razmnožavanja</a:t>
            </a:r>
            <a:r>
              <a:rPr b="0" lang="sr-Latn-CS" sz="2400" spc="-1" strike="noStrike">
                <a:solidFill>
                  <a:srgbClr val="ffffff"/>
                </a:solidFill>
                <a:latin typeface="Tahoma"/>
              </a:rPr>
              <a:t>. Pod teoretski idealnim uslovima života i pretpostavkom da svi potomci prežive samo jedan par domaćih miševa, a takođe i sivog pacova, mogao bi da d</a:t>
            </a:r>
            <a:r>
              <a:rPr b="0" lang="en-US" sz="2400" spc="-1" strike="noStrike">
                <a:solidFill>
                  <a:srgbClr val="ffffff"/>
                </a:solidFill>
                <a:latin typeface="Tahoma"/>
                <a:ea typeface="Tahoma"/>
              </a:rPr>
              <a:t>â</a:t>
            </a:r>
            <a:r>
              <a:rPr b="0" lang="sr-Latn-CS" sz="2400" spc="-1" strike="noStrike">
                <a:solidFill>
                  <a:srgbClr val="ffffff"/>
                </a:solidFill>
                <a:latin typeface="Tahoma"/>
                <a:ea typeface="Tahoma"/>
              </a:rPr>
              <a:t> preko 2000 potomaka u toku jedne godin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    </a:t>
            </a:r>
            <a:r>
              <a:rPr b="0" lang="sr-Latn-CS" sz="2400" spc="-1" strike="noStrike">
                <a:solidFill>
                  <a:srgbClr val="ffffff"/>
                </a:solidFill>
                <a:latin typeface="Tahoma"/>
                <a:ea typeface="Tahoma"/>
              </a:rPr>
              <a:t>Na sreću ova teoretska mogućnost se u prirodi nikad ne ostvaruje, ali čak i 10% od tog broja ubedljivo govori o visokom biotičkom potencijal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9" name=""/>
          <p:cNvSpPr txBox="1"/>
          <p:nvPr/>
        </p:nvSpPr>
        <p:spPr>
          <a:xfrm>
            <a:off x="380520" y="1600200"/>
            <a:ext cx="8458200" cy="4525920"/>
          </a:xfrm>
          <a:prstGeom prst="rect">
            <a:avLst/>
          </a:prstGeom>
          <a:noFill/>
          <a:ln w="0">
            <a:noFill/>
          </a:ln>
        </p:spPr>
        <p:txBody>
          <a:bodyPr anchor="t">
            <a:normAutofit fontScale="68000"/>
          </a:bodyPr>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eratizacija kanalizacionog sistema moguća je izlaganjem zatrovanih mamaca u revizione šahtove ili pak u kolektore. Parafinisani ili rastresiti mamci upakovani u nauljane papirne ili najlon vrećice težine oko 20 gr. (akutni otrovi) ili do 500 gr. (antikoagulantni rodenticidi), izlažu se na bankine tj. Ispuste odvodnih kanala.</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arafinisani mamci se mogu kačiti za prvi donji metalni stepenik revizionog šahta ili za rešetkasti pod.</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potpuni uspeh potrebno je postavljati mamce u sve revizione šahte, što se u praksi iz ekonomskih razloga to ne radi.</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61" name=""/>
          <p:cNvSpPr txBox="1"/>
          <p:nvPr/>
        </p:nvSpPr>
        <p:spPr>
          <a:xfrm>
            <a:off x="380520" y="1600200"/>
            <a:ext cx="8458200" cy="4525920"/>
          </a:xfrm>
          <a:prstGeom prst="rect">
            <a:avLst/>
          </a:prstGeom>
          <a:noFill/>
          <a:ln w="0">
            <a:noFill/>
          </a:ln>
        </p:spPr>
        <p:txBody>
          <a:bodyPr anchor="t">
            <a:normAutofit fontScale="67000"/>
          </a:bodyPr>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da se radi o postavljanju mamaca namenjenih suzbijanju populacije crnog pacova, može se reći da je on mnogo sličniji postavljanju mamaca za kućnog miš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 obzirom da jedinke crnog pacova uzimaju hranu sa velikog broja mesta, to je za njihovo suzbijanje potreban znatno veći broj mamaca izloženih u količini od 50 do     100 gr. (mamci sa antikoagulantima) ili 10 do 20 gr. (mamci sa trenutnim otrovom).</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željno je da mamci vlažni (navlaženi ili sadrže komadiće voća ili povrća, voćni siru, mladi sir).</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3" name=""/>
          <p:cNvSpPr txBox="1"/>
          <p:nvPr/>
        </p:nvSpPr>
        <p:spPr>
          <a:xfrm>
            <a:off x="380520" y="1600200"/>
            <a:ext cx="8458200" cy="4525920"/>
          </a:xfrm>
          <a:prstGeom prst="rect">
            <a:avLst/>
          </a:prstGeom>
          <a:noFill/>
          <a:ln w="0">
            <a:noFill/>
          </a:ln>
        </p:spPr>
        <p:txBody>
          <a:bodyPr anchor="t">
            <a:normAutofit fontScale="81000"/>
          </a:bodyPr>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eratizacija obuhvata čitav niz priprema ili predradnji koje se moraju obaviti pre nego što se pristupi njenom praktičnom izvođenju. Ukoliko se sve pripreme ne sprovedu blagovremeno, organizovano i sistematski, krajnji ishod akcije rezultiraće neuspehom.</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5" name=""/>
          <p:cNvSpPr txBox="1"/>
          <p:nvPr/>
        </p:nvSpPr>
        <p:spPr>
          <a:xfrm>
            <a:off x="380520" y="1600200"/>
            <a:ext cx="8458200" cy="4525920"/>
          </a:xfrm>
          <a:prstGeom prst="rect">
            <a:avLst/>
          </a:prstGeom>
          <a:noFill/>
          <a:ln w="0">
            <a:noFill/>
          </a:ln>
        </p:spPr>
        <p:txBody>
          <a:bodyPr anchor="t">
            <a:normAutofit fontScale="64000"/>
          </a:bodyPr>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načajni elementi za organizaciju sprovođenje deratizacije i opreme potrebne za njenu realizaciju:</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1. Informisanje građanstva o sprovođenju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baveštavanje o trovanju štetnih glodar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2. Kadrovi neophodni u sprovođenju deratizacije i normiranje rad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7" name=""/>
          <p:cNvSpPr txBox="1"/>
          <p:nvPr/>
        </p:nvSpPr>
        <p:spPr>
          <a:xfrm>
            <a:off x="380520" y="1600200"/>
            <a:ext cx="8458200" cy="4525920"/>
          </a:xfrm>
          <a:prstGeom prst="rect">
            <a:avLst/>
          </a:prstGeom>
          <a:noFill/>
          <a:ln w="0">
            <a:noFill/>
          </a:ln>
        </p:spPr>
        <p:txBody>
          <a:bodyPr anchor="t">
            <a:normAutofit fontScale="64000"/>
          </a:bodyPr>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3. Utvrđivanje stepena invadiranosti primenom metoda za procenu gustine populacija mišolikih glodar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4. Oprema za izvođenje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5. Razrada plana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6. Kontrola uspeha izvedene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269" name="PlaceHolder 2"/>
          <p:cNvSpPr>
            <a:spLocks noGrp="1"/>
          </p:cNvSpPr>
          <p:nvPr>
            <p:ph/>
          </p:nvPr>
        </p:nvSpPr>
        <p:spPr>
          <a:xfrm>
            <a:off x="457200" y="2285640"/>
            <a:ext cx="822960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Razmnožavanje i neobuzdana invazija pacova i drugih glodara usko je vezana za preterano uništavanje prirodnih neprijatelja glodara: divljih zveri i ptica grabljivica, čime je poremećena prirodna ravnoteža u prirod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271" name="PlaceHolder 2"/>
          <p:cNvSpPr>
            <a:spLocks noGrp="1"/>
          </p:cNvSpPr>
          <p:nvPr>
            <p:ph/>
          </p:nvPr>
        </p:nvSpPr>
        <p:spPr>
          <a:xfrm>
            <a:off x="457200" y="1904760"/>
            <a:ext cx="8229600" cy="32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Poslednjih godina i čovek im stvara idealne uslove za egzistenciju nehigijenskim postupkom sa životnim namirnicama, otpadnim materijama i nepreduzimanjem odgovarajućih preventivnih mera pri izgradnji objekata za proizvodnju i promet životnih namir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66880"/>
            <a:ext cx="82296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00"/>
                </a:solidFill>
                <a:latin typeface="Tahoma"/>
              </a:rPr>
              <a:t>HVALA NA PAŽNJI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4" name="PlaceHolder 2"/>
          <p:cNvSpPr>
            <a:spLocks noGrp="1"/>
          </p:cNvSpPr>
          <p:nvPr>
            <p:ph/>
          </p:nvPr>
        </p:nvSpPr>
        <p:spPr>
          <a:xfrm>
            <a:off x="457200" y="2286000"/>
            <a:ext cx="8229600" cy="3581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400" spc="-1" strike="noStrike">
                <a:solidFill>
                  <a:srgbClr val="ffffff"/>
                </a:solidFill>
                <a:latin typeface="Tahoma"/>
              </a:rPr>
              <a:t>Pacov se razmnožava veoma brzo i preko cele godine i spada među najplodnije vrste sisara uopšt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Procene SZO su da u Indiji živi preko 3,5 milijardi pacov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U Americi živi oko 50,000.000 pacova, a u San Francisku broj uništenih pacova u jednoj godini premašuje broj stanovnik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U</a:t>
            </a:r>
            <a:r>
              <a:rPr b="0" lang="en-US" sz="2400" spc="-1" strike="noStrike">
                <a:solidFill>
                  <a:srgbClr val="ffffff"/>
                </a:solidFill>
                <a:latin typeface="Tahoma"/>
              </a:rPr>
              <a:t> Par</a:t>
            </a:r>
            <a:r>
              <a:rPr b="0" lang="sr-Latn-CS" sz="2400" spc="-1" strike="noStrike">
                <a:solidFill>
                  <a:srgbClr val="ffffff"/>
                </a:solidFill>
                <a:latin typeface="Tahoma"/>
              </a:rPr>
              <a:t>izu pacovi dnevno unište oko 200 tona hra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6" name="PlaceHolder 2"/>
          <p:cNvSpPr>
            <a:spLocks noGrp="1"/>
          </p:cNvSpPr>
          <p:nvPr>
            <p:ph/>
          </p:nvPr>
        </p:nvSpPr>
        <p:spPr>
          <a:xfrm>
            <a:off x="457200" y="2286000"/>
            <a:ext cx="8229600" cy="358128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dodira </a:t>
            </a:r>
            <a:r>
              <a:rPr b="0" lang="sr-Latn-CS" sz="2400" spc="-1" strike="noStrike">
                <a:solidFill>
                  <a:srgbClr val="ffffff"/>
                </a:solidFill>
                <a:latin typeface="Tahoma"/>
              </a:rPr>
              <a:t>jedno je od najvažnijih čula. Većina vrsta su noćne životinje pa vid nema značajniju ulogu pri kretanju i orijentaciji životinja u mraku. Snalaženje u prostoru prepušteno je čulu dodira, pri čemu taktilne dlake, raspoređene po leđnoj i bočnim stranama tela i njušci, imaju važnu ulogu. Ova sposobnost se naziva </a:t>
            </a:r>
            <a:r>
              <a:rPr b="1" lang="sr-Latn-CS" sz="2400" spc="-1" strike="noStrike">
                <a:solidFill>
                  <a:srgbClr val="ffff00"/>
                </a:solidFill>
                <a:latin typeface="Tahoma"/>
              </a:rPr>
              <a:t>tigmotaksis</a:t>
            </a:r>
            <a:r>
              <a:rPr b="1" lang="sr-Latn-CS" sz="2400" spc="-1" strike="noStrike">
                <a:solidFill>
                  <a:srgbClr val="ffffff"/>
                </a:solidFill>
                <a:latin typeface="Tahoma"/>
              </a:rPr>
              <a:t>.</a:t>
            </a:r>
            <a:endParaRPr b="0" lang="en-US" sz="2400" spc="-1" strike="noStrike">
              <a:solidFill>
                <a:srgbClr val="000000"/>
              </a:solidFill>
              <a:latin typeface="Arial"/>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ahoma"/>
              </a:rPr>
              <a:t>    </a:t>
            </a:r>
            <a:r>
              <a:rPr b="0" lang="sr-Latn-CS" sz="2400" spc="-1" strike="noStrike">
                <a:solidFill>
                  <a:srgbClr val="ffffff"/>
                </a:solidFill>
                <a:latin typeface="Tahoma"/>
              </a:rPr>
              <a:t>Sposobnost životinje da se predmeti percepiraju telesnim dodirom ili tzv “mišićnim čulom” naziva se </a:t>
            </a:r>
            <a:r>
              <a:rPr b="1" lang="sr-Latn-CS" sz="2400" spc="-1" strike="noStrike">
                <a:solidFill>
                  <a:srgbClr val="ffff00"/>
                </a:solidFill>
                <a:latin typeface="Tahoma"/>
              </a:rPr>
              <a:t>kinestezis</a:t>
            </a:r>
            <a:r>
              <a:rPr b="0" lang="sr-Latn-C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8" name="PlaceHolder 2"/>
          <p:cNvSpPr>
            <a:spLocks noGrp="1"/>
          </p:cNvSpPr>
          <p:nvPr>
            <p:ph/>
          </p:nvPr>
        </p:nvSpPr>
        <p:spPr>
          <a:xfrm>
            <a:off x="457200" y="2286000"/>
            <a:ext cx="8229600" cy="3581280"/>
          </a:xfrm>
          <a:prstGeom prst="rect">
            <a:avLst/>
          </a:prstGeom>
          <a:noFill/>
          <a:ln w="0">
            <a:noFill/>
          </a:ln>
        </p:spPr>
        <p:txBody>
          <a:bodyPr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ukusa </a:t>
            </a:r>
            <a:r>
              <a:rPr b="0" lang="sr-Latn-CS" sz="2400" spc="-1" strike="noStrike">
                <a:solidFill>
                  <a:srgbClr val="ffffff"/>
                </a:solidFill>
                <a:latin typeface="Tahoma"/>
              </a:rPr>
              <a:t>mišolikih glodara predstavlja, najverovatnije, kombinaciju čula vida, mirisa i ukusa.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1" lang="sr-Latn-CS" sz="2400" spc="-1" strike="noStrike">
                <a:solidFill>
                  <a:srgbClr val="ffffff"/>
                </a:solidFill>
                <a:latin typeface="Tahoma"/>
              </a:rPr>
              <a:t>Čulo vida </a:t>
            </a:r>
            <a:r>
              <a:rPr b="0" lang="sr-Latn-CS" sz="2400" spc="-1" strike="noStrike">
                <a:solidFill>
                  <a:srgbClr val="ffffff"/>
                </a:solidFill>
                <a:latin typeface="Tahoma"/>
              </a:rPr>
              <a:t>igra relativno malu ulogu kod sitnih glodara. Neke vrste mišolikih glodara dobro vide i noću. Skoro je sigurno da su pacovi i miševi slepi za boje, ali je ustanovljeno da su žuta i zelena boja za njih atraktivn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Sposobnost životinja da prepoznaju oblike predmeta i pokrete je, u celini uzev, dob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0"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mirisa </a:t>
            </a:r>
            <a:r>
              <a:rPr b="0" lang="sr-Latn-CS" sz="2400" spc="-1" strike="noStrike">
                <a:solidFill>
                  <a:srgbClr val="ffffff"/>
                </a:solidFill>
                <a:latin typeface="Tahoma"/>
              </a:rPr>
              <a:t>ima značajnu ulogu u životu mišolikih glodara. Ono je naročito značajno za razmnožavanje, agresivno ponašanje, pri uzgajanju mladunaca i td.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Za glodare je od značaja uticaj mirisa drugih vrsta životinja. Pacovi se “skamene” kada osete miris mačke, a često ne reaguju kada je vid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Privlačnost ili odbojnost prema mirisu predstavnika iste ili različite vrste, može se koristiti kao jedna od mogućnosti u suzbijanju brojnosti populacije štetnih glod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2"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O </a:t>
            </a:r>
            <a:r>
              <a:rPr b="1" lang="sr-Latn-CS" sz="2400" spc="-1" strike="noStrike">
                <a:solidFill>
                  <a:srgbClr val="ffffff"/>
                </a:solidFill>
                <a:latin typeface="Tahoma"/>
              </a:rPr>
              <a:t>čulu sluha </a:t>
            </a:r>
            <a:r>
              <a:rPr b="0" lang="sr-Latn-CS" sz="2400" spc="-1" strike="noStrike">
                <a:solidFill>
                  <a:srgbClr val="ffffff"/>
                </a:solidFill>
                <a:latin typeface="Tahoma"/>
              </a:rPr>
              <a:t>sitnih glodara se dugo vremena malo znalo. Ispitivanja koja su rađena pokazuju da glodari imaju dobro razvijeno čulo sluha. Mišoliki glodari čuju zvuke koji su iznad granice čujnosti čoveka (20 kHz).</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Osim što percipiraju ultrazvučne talase, glodari su u stanju i da ih proizvode. Ovi zvuci se koriste u cilju komunikacije između jedink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4"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Primena zatrovanih mamaca</a:t>
            </a:r>
            <a:r>
              <a:rPr b="0" lang="sr-Latn-CS" sz="2400" spc="-1" strike="noStrike">
                <a:solidFill>
                  <a:srgbClr val="ffffff"/>
                </a:solidFill>
                <a:latin typeface="Tahoma"/>
              </a:rPr>
              <a:t> je najčešći metod u suzbijanju brojnosti populacije štetnih glodara. Da bi se poboljšalo uzimanje mamaca, osnovni preduslov je poznavanje ishrane glodara, načina dolaženja do hrane i reagovanja na nove izvore hr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6"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Sitni glodari pojedu samo onoliko hrane koliko je potrebno za održavanje pune kondicije tj. zdravlja. Kada se ponude sastavni delovi hrane, konzumiraće samo onoliko od svakog hranljivog sastojka koliko im je stvarno potrebno (fenomen poznat kao </a:t>
            </a:r>
            <a:r>
              <a:rPr b="1" lang="sr-Latn-CS" sz="2400" spc="-1" strike="noStrike">
                <a:solidFill>
                  <a:srgbClr val="ccff33"/>
                </a:solidFill>
                <a:latin typeface="Tahoma"/>
              </a:rPr>
              <a:t>sopstvena hranidbena selekcija</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8"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Da bi se podstaklo uzimanje mamaca, pribegava se dodavanju izvesnih materija koje deluju kao </a:t>
            </a:r>
            <a:r>
              <a:rPr b="0" i="1" lang="sr-Latn-CS" sz="2400" spc="-1" strike="noStrike">
                <a:solidFill>
                  <a:srgbClr val="ffffff"/>
                </a:solidFill>
                <a:latin typeface="Tahoma"/>
              </a:rPr>
              <a:t>atraktanti</a:t>
            </a:r>
            <a:r>
              <a:rPr b="0" lang="sr-Latn-CS" sz="2400" spc="-1" strike="noStrike">
                <a:solidFill>
                  <a:srgbClr val="ffffff"/>
                </a:solidFill>
                <a:latin typeface="Tahoma"/>
              </a:rPr>
              <a:t>. Mnoge materije zadržavaju glodare na izvoru hrane, bilo zato što ove materije s jedne strane maskiraju ukus aktivne supstance rodenticida, ili zato što su i same po sebi ukusne. Dve materije koje se najčešće koriste za ovu svrhu su biljno ulje i šeć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4" name="PlaceHolder 2"/>
          <p:cNvSpPr>
            <a:spLocks noGrp="1"/>
          </p:cNvSpPr>
          <p:nvPr>
            <p:ph/>
          </p:nvPr>
        </p:nvSpPr>
        <p:spPr>
          <a:xfrm>
            <a:off x="457200" y="2514600"/>
            <a:ext cx="8229600" cy="3611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Od približno 5000 vrsta sisara (Mammalia), oko 2000 vrsta pripada redu glodara (Rodenti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Na našem području živi 32 vrste mišolikih glodara         (7 familij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Od posebnog značaja su sledeći predstavni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u="sng">
                <a:solidFill>
                  <a:srgbClr val="ffffff"/>
                </a:solidFill>
                <a:uFillTx/>
                <a:latin typeface="Tahoma"/>
              </a:rPr>
              <a:t>Šećer</a:t>
            </a:r>
            <a:r>
              <a:rPr b="0" lang="sr-Latn-CS" sz="2400" spc="-1" strike="noStrike">
                <a:solidFill>
                  <a:srgbClr val="ffffff"/>
                </a:solidFill>
                <a:latin typeface="Tahoma"/>
              </a:rPr>
              <a:t> je jedan od važnih dodataka hranljivoj podlozi za spravljanje zatrovanih mamaca namenjenih suzbijanju mišolikih glodara. Kod nas se u praksi najčešće koristi 5% šećera u zatrovanom mamc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u="sng">
                <a:solidFill>
                  <a:srgbClr val="ffffff"/>
                </a:solidFill>
                <a:uFillTx/>
                <a:latin typeface="Tahoma"/>
              </a:rPr>
              <a:t>Voda</a:t>
            </a:r>
            <a:r>
              <a:rPr b="0" lang="sr-Latn-CS" sz="2400" spc="-1" strike="noStrike">
                <a:solidFill>
                  <a:srgbClr val="ffffff"/>
                </a:solidFill>
                <a:latin typeface="Tahoma"/>
              </a:rPr>
              <a:t> je takođe značajan faktor u ishrani sitnih glodara. Sivi i crni pacov imaju svakodnevnu potrebu za pijenjem vode, a u slučaju da je nema opredeljuju se za sočnu hranu. Većina pripadnika mišolikih glodara koristi takozvanu metaboličku vodu, a piju je ukoliko im se nađe na raspolaganj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Pod našim podnebljem žive dve vrste pacov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 </a:t>
            </a:r>
            <a:r>
              <a:rPr b="0" lang="sr-Latn-CS" sz="2400" spc="-1" strike="noStrike">
                <a:solidFill>
                  <a:srgbClr val="ffff00"/>
                </a:solidFill>
                <a:latin typeface="Tahoma"/>
              </a:rPr>
              <a:t>sivi</a:t>
            </a:r>
            <a:r>
              <a:rPr b="0" lang="sr-Latn-CS" sz="2400" spc="-1" strike="noStrike">
                <a:solidFill>
                  <a:srgbClr val="ffffff"/>
                </a:solidFill>
                <a:latin typeface="Tahoma"/>
              </a:rPr>
              <a:t>, tzv. selilac ili lešinar 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 </a:t>
            </a:r>
            <a:r>
              <a:rPr b="0" lang="sr-Latn-CS" sz="2400" spc="-1" strike="noStrike">
                <a:solidFill>
                  <a:srgbClr val="ffff00"/>
                </a:solidFill>
                <a:latin typeface="Tahoma"/>
              </a:rPr>
              <a:t>crni</a:t>
            </a:r>
            <a:r>
              <a:rPr b="0" lang="sr-Latn-CS" sz="2400" spc="-1" strike="noStrike">
                <a:solidFill>
                  <a:srgbClr val="ffffff"/>
                </a:solidFill>
                <a:latin typeface="Tahoma"/>
              </a:rPr>
              <a:t> pacov “tavansk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U velikim lukama u kojima pristaju brodovi iz Azije i Amerike, može se naići i na aleksandrijskog pacova, veoma sličnog crnom, koji se nije odomaćio u našoj zeml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00"/>
                </a:solidFill>
                <a:latin typeface="Arial"/>
              </a:rPr>
              <a:t>1.1.</a:t>
            </a:r>
            <a:r>
              <a:rPr b="0" lang="sr-Latn-CS" sz="2400" spc="-1" strike="noStrike">
                <a:solidFill>
                  <a:srgbClr val="ffff00"/>
                </a:solidFill>
                <a:latin typeface="Tahoma"/>
              </a:rPr>
              <a:t>Sivi pacov (</a:t>
            </a:r>
            <a:r>
              <a:rPr b="0" i="1" lang="sr-Latn-CS" sz="2400" spc="-1" strike="noStrike">
                <a:solidFill>
                  <a:srgbClr val="ffff00"/>
                </a:solidFill>
                <a:latin typeface="Tahoma"/>
              </a:rPr>
              <a:t>Rattus norvegic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 vrsta je najkrupnija u porodici miševa. Dužina gipkog tela sa repom iznosi oko 45 cm, a težina oko 450 gr. Ubraja se u najnepoverljivije, najokretnije i najlukavije životinje. Može da živi i do tri godine ako ne strada od nekog oboljenja kojima je veoma podložan.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Živi u podrumima, nužnicima, jarkovima, kanalima i kanalizacij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dlično i vrlo vešto pliva i roni, u čemu mu pomažu male membrane (opnice) među nožnim prstima. U stanju je da pliva kilometrima uz kanalizacione cevi gotovo pune vod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ždvljivost mu je glavna karakteristika. Ne bira hranu, jede sve. Gladan napada svinje i druge domaće životinje nesposobne da se brane, najčešće na spavanju. U stanju je da za jednu noć udavi veći broj pilića kojima samo isisa krv.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zbegava susrete sa čovekom čije prisustvo oseća i na većoj udaljenosti. Gladan i u velikim grupama ne preza da napadne i čovek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ogađa se da napadne nepokretne bolesnike, pijane osobe i decu u kolevci, koja od zadobijenih ujeda mogu i da umr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ez hrane i vode ugine brzo, za tri do četiri dana. To treba koristiti pri njegovom uništavanju, služeći se građevinsko-tehničkim merama koje mu onemogućavaju pristup hrani i vod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 velikoj nestašici hrane sivi pacovi se međusobno uništavaju. Prvo stradaju najslabiji, najmanje sposbni da se brane. Ovaj nagon se koristi u biološkoj borbi protiv njih, stvaranjem tzv. “pacova vuk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većim gradovima najviše ih ima na železničkim stanicama i pristaništima, oko klanica, u delovima grada gde se deponuje smeće, izlivaju kolektori i td. Ima ih, takođe, na pijacama, mlinovima, fabrikama koža, kao i na svakom drugom mestu gde ima hran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ajradije se naseljavaju u kanalizaciji. Preko dana miruju u skrovištu, a noću su veoma aktivni. Kad se njihovo kretanje zapazi i u toku dana, znak je da ih ima u velikom bro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avi su majstori za veranje uz oluk i žicu. Prokopavaju rečne nasipe, buše zidove i temelje zgrada, naročito na uglovima. Nisu u stanju da se kreću po glatkim površinama od stakla, cinka i uglačanog kamena. Betonski sloj debljine 10 cm nisu u stanju da probiju. U stanju su da skoče i do 75 cm u visin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1.2.</a:t>
            </a:r>
            <a:r>
              <a:rPr b="0" lang="en-US" sz="2400" spc="-1" strike="noStrike">
                <a:solidFill>
                  <a:srgbClr val="ffffff"/>
                </a:solidFill>
                <a:latin typeface="Tahoma"/>
              </a:rPr>
              <a:t> </a:t>
            </a:r>
            <a:r>
              <a:rPr b="0" lang="en-US" sz="2400" spc="-1" strike="noStrike">
                <a:solidFill>
                  <a:srgbClr val="ffff00"/>
                </a:solidFill>
                <a:latin typeface="Tahoma"/>
              </a:rPr>
              <a:t>Crni pacov (</a:t>
            </a:r>
            <a:r>
              <a:rPr b="0" i="1" lang="en-US" sz="2400" spc="-1" strike="noStrike">
                <a:solidFill>
                  <a:srgbClr val="ffff00"/>
                </a:solidFill>
                <a:latin typeface="Tahoma"/>
              </a:rPr>
              <a:t>Rattus rattus</a:t>
            </a:r>
            <a:r>
              <a:rPr b="0" lang="en-US" sz="2400" spc="-1" strike="noStrike">
                <a:solidFill>
                  <a:srgbClr val="ffff00"/>
                </a:solidFill>
                <a:latin typeface="Tahoma"/>
              </a:rPr>
              <a:t>)</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Živi po tavanima i gornjim delovima zgrade. Znato je manji od sivog pacova sa kojim izbegava susret. Dužina tela crnog pacova iznosi 15-20 cm, a rep mu je nešto duži od tela.</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oli suvu i toplu sredinu, ali u opasnosti može i da pliva. Vrlo vešto beži i lako se ver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4038840"/>
          </a:xfrm>
          <a:prstGeom prst="rect">
            <a:avLst/>
          </a:prstGeom>
          <a:noFill/>
          <a:ln w="0">
            <a:noFill/>
          </a:ln>
        </p:spPr>
        <p:txBody>
          <a:bodyPr anchor="t">
            <a:normAutofit fontScale="93000"/>
          </a:bodyPr>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birač je, jede samo pojedine vrste hrane, pretežno plodove koje čovek koristi za svoju ishranu (semena žita).</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ože da izdrži dugo bez vode.</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ukav je i obazriv, zbog čega ga je teško uloviti i otrovati.</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Čistiji je, brži, okretniji i bolje se penje i skače od sivog pacova.</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6"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mišoliki glodari iz rodova </a:t>
            </a:r>
            <a:r>
              <a:rPr b="0" i="1" lang="sr-Latn-CS" sz="2400" spc="-1" strike="noStrike">
                <a:solidFill>
                  <a:srgbClr val="ffffff"/>
                </a:solidFill>
                <a:latin typeface="Tahoma"/>
              </a:rPr>
              <a:t>Rattus, Mus </a:t>
            </a:r>
            <a:r>
              <a:rPr b="0" lang="sr-Latn-CS" sz="2400" spc="-1" strike="noStrike">
                <a:solidFill>
                  <a:srgbClr val="ffffff"/>
                </a:solidFill>
                <a:latin typeface="Tahoma"/>
              </a:rPr>
              <a:t>i </a:t>
            </a:r>
            <a:r>
              <a:rPr b="0" i="1" lang="sr-Latn-CS" sz="2400" spc="-1" strike="noStrike">
                <a:solidFill>
                  <a:srgbClr val="ffffff"/>
                </a:solidFill>
                <a:latin typeface="Tahoma"/>
              </a:rPr>
              <a:t>Apodemus, </a:t>
            </a:r>
            <a:r>
              <a:rPr b="0" lang="sr-Latn-CS" sz="2400" spc="-1" strike="noStrike">
                <a:solidFill>
                  <a:srgbClr val="ffffff"/>
                </a:solidFill>
                <a:latin typeface="Tahoma"/>
              </a:rPr>
              <a:t>u prvom redu sivi pacov  (</a:t>
            </a:r>
            <a:r>
              <a:rPr b="0" i="1" lang="sr-Latn-CS" sz="2400" spc="-1" strike="noStrike">
                <a:solidFill>
                  <a:srgbClr val="ffff00"/>
                </a:solidFill>
                <a:latin typeface="Tahoma"/>
              </a:rPr>
              <a:t>Rattus norvegicus</a:t>
            </a:r>
            <a:r>
              <a:rPr b="0" lang="sr-Latn-CS" sz="2400" spc="-1" strike="noStrike">
                <a:solidFill>
                  <a:srgbClr val="ffffff"/>
                </a:solidFill>
                <a:latin typeface="Tahoma"/>
              </a:rPr>
              <a:t>), crni pacov (</a:t>
            </a:r>
            <a:r>
              <a:rPr b="0" i="1" lang="sr-Latn-CS" sz="2400" spc="-1" strike="noStrike">
                <a:solidFill>
                  <a:srgbClr val="ffff00"/>
                </a:solidFill>
                <a:latin typeface="Tahoma"/>
              </a:rPr>
              <a:t>Rattus rattus</a:t>
            </a:r>
            <a:r>
              <a:rPr b="0" lang="sr-Latn-CS" sz="2400" spc="-1" strike="noStrike">
                <a:solidFill>
                  <a:srgbClr val="ffffff"/>
                </a:solidFill>
                <a:latin typeface="Tahoma"/>
              </a:rPr>
              <a:t>), kućni miš (</a:t>
            </a:r>
            <a:r>
              <a:rPr b="0" i="1" lang="sr-Latn-CS" sz="2400" spc="-1" strike="noStrike">
                <a:solidFill>
                  <a:srgbClr val="ffff00"/>
                </a:solidFill>
                <a:latin typeface="Tahoma"/>
              </a:rPr>
              <a:t>Mus musculus</a:t>
            </a:r>
            <a:r>
              <a:rPr b="0" lang="sr-Latn-CS" sz="2400" spc="-1" strike="noStrike">
                <a:solidFill>
                  <a:srgbClr val="ffffff"/>
                </a:solidFill>
                <a:latin typeface="Tahoma"/>
              </a:rPr>
              <a:t>), miš humkaš (</a:t>
            </a:r>
            <a:r>
              <a:rPr b="0" i="1" lang="sr-Latn-CS" sz="2400" spc="-1" strike="noStrike">
                <a:solidFill>
                  <a:srgbClr val="ffff00"/>
                </a:solidFill>
                <a:latin typeface="Tahoma"/>
              </a:rPr>
              <a:t>Mus hortulans</a:t>
            </a:r>
            <a:r>
              <a:rPr b="0" lang="sr-Latn-CS" sz="2400" spc="-1" strike="noStrike">
                <a:solidFill>
                  <a:srgbClr val="ffffff"/>
                </a:solidFill>
                <a:latin typeface="Tahoma"/>
              </a:rPr>
              <a:t>), šumski miš (</a:t>
            </a:r>
            <a:r>
              <a:rPr b="0" i="1" lang="sr-Latn-CS" sz="2400" spc="-1" strike="noStrike">
                <a:solidFill>
                  <a:srgbClr val="ffff00"/>
                </a:solidFill>
                <a:latin typeface="Tahoma"/>
              </a:rPr>
              <a:t>Apodemus sylvaticus</a:t>
            </a:r>
            <a:r>
              <a:rPr b="0" lang="sr-Latn-CS" sz="2400" spc="-1" strike="noStrike">
                <a:solidFill>
                  <a:srgbClr val="ffffff"/>
                </a:solidFill>
                <a:latin typeface="Tahoma"/>
              </a:rPr>
              <a:t>), poljski ili prugasti miš (</a:t>
            </a:r>
            <a:r>
              <a:rPr b="0" i="1" lang="sr-Latn-CS" sz="2400" spc="-1" strike="noStrike">
                <a:solidFill>
                  <a:srgbClr val="ffff00"/>
                </a:solidFill>
                <a:latin typeface="Tahoma"/>
              </a:rPr>
              <a:t>Apodemus agrarius</a:t>
            </a:r>
            <a:r>
              <a:rPr b="0" lang="sr-Latn-CS" sz="2400" spc="-1" strike="noStrike">
                <a:solidFill>
                  <a:srgbClr val="ffffff"/>
                </a:solidFill>
                <a:latin typeface="Tahoma"/>
              </a:rPr>
              <a:t>) i žutogrli miš (</a:t>
            </a:r>
            <a:r>
              <a:rPr b="0" i="1" lang="sr-Latn-CS" sz="2400" spc="-1" strike="noStrike">
                <a:solidFill>
                  <a:srgbClr val="ffff00"/>
                </a:solidFill>
                <a:latin typeface="Tahoma"/>
              </a:rPr>
              <a:t>Apodemus flavicolis</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e kopa rupe, već gnezda pravi u raznim pukotinama i na skrovitim mestima. Često preko telefonskih žica prelazi iz kuće u kuću. Penje se i po stablima.</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Kreće se više noću, jer tada bolje vidi.</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oli da živi na brodovima, na koje najčešće dospeva preko prolaza, konopaca kojima se vezuje brod ili biva utovaren zajedno sa žitom i drugom robom.</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4038840"/>
          </a:xfrm>
          <a:prstGeom prst="rect">
            <a:avLst/>
          </a:prstGeom>
          <a:noFill/>
          <a:ln w="0">
            <a:noFill/>
          </a:ln>
        </p:spPr>
        <p:txBody>
          <a:bodyPr anchor="t">
            <a:normAutofit fontScale="84000"/>
          </a:bodyPr>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e jede nikad u isto vreme sa sivim pacovom i drugim glodarima, jer na mestima i gde ima dosta hrane dolazi često u sukob sa njima.</a:t>
            </a: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lednjih godina primećen je znatan porast crnih pacova. Razlog treba tražiti i u načinu uskladištenja žita, kao savremeni način izgradnje objekata, naročito krovova. Tome doprinosi izgradnja instalacija centralnog grejanja, veliki broj telefonskih žica, antena TV kao i drugih instalacija, koje predstavljaju podesna skrovišta za crnog pacova.</a:t>
            </a: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288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4038840"/>
          </a:xfrm>
          <a:prstGeom prst="rect">
            <a:avLst/>
          </a:prstGeom>
          <a:noFill/>
          <a:ln w="0">
            <a:noFill/>
          </a:ln>
        </p:spPr>
        <p:txBody>
          <a:bodyPr anchor="t">
            <a:normAutofit fontScale="88000"/>
          </a:bodyPr>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1. Kućni miš (</a:t>
            </a:r>
            <a:r>
              <a:rPr b="0" i="1" lang="en-US" sz="2400" spc="-1" strike="noStrike">
                <a:solidFill>
                  <a:srgbClr val="ffff00"/>
                </a:solidFill>
                <a:latin typeface="Tahoma"/>
              </a:rPr>
              <a:t>Mus musculus</a:t>
            </a:r>
            <a:r>
              <a:rPr b="0" lang="en-US" sz="2400" spc="-1" strike="noStrike">
                <a:solidFill>
                  <a:srgbClr val="ffff00"/>
                </a:solidFill>
                <a:latin typeface="Tahoma"/>
              </a:rPr>
              <a:t>)</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užina tela je 7-10 cm, a repa 7-12 cm., a težina 20-25 gr. Najčešće živi uz čoveka, po kućama, ostavama i magacinima prehrambenih proizvoda, oko staja i ambara.</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prirodi je od kraja proleća do sredine jeseni, a zatim se sa nastupanjem hladnog i kišovitog perioda ponovo vraća u ljudska naselja.</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slobodnoj prirodi hrani se semenjem i plodovima svih kultura biljaka. Često konzumira tek posejana zrna žitarica i tako čini ogromne štete već pri samoj setvi. U stambenim objetima nanose znatne štete jedući i zagađujući životne namirnic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sim što konzumira životne namirnice, kućni miš delimično ili u potpunosti oštećuje i knjige, vrednosne papire, umetničke predmete (slike na primer), kartonsku, plastičnu i drvenu ambalažu, odevne predmete od tekstila i kože, izolacionu oblogu električnih kablova, posteljinu, nameštaj.</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4038840"/>
          </a:xfrm>
          <a:prstGeom prst="rect">
            <a:avLst/>
          </a:prstGeom>
          <a:noFill/>
          <a:ln w="0">
            <a:noFill/>
          </a:ln>
        </p:spPr>
        <p:txBody>
          <a:bodyPr anchor="t">
            <a:normAutofit fontScale="91000"/>
          </a:bodyPr>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2.</a:t>
            </a:r>
            <a:r>
              <a:rPr b="0" lang="en-US" sz="2400" spc="-1" strike="noStrike">
                <a:solidFill>
                  <a:srgbClr val="ffffff"/>
                </a:solidFill>
                <a:latin typeface="Tahoma"/>
              </a:rPr>
              <a:t> </a:t>
            </a:r>
            <a:r>
              <a:rPr b="0" lang="en-US" sz="2400" spc="-1" strike="noStrike">
                <a:solidFill>
                  <a:srgbClr val="ffff00"/>
                </a:solidFill>
                <a:latin typeface="Tahoma"/>
              </a:rPr>
              <a:t>Miš humkaš (</a:t>
            </a:r>
            <a:r>
              <a:rPr b="0" i="1" lang="en-US" sz="2400" spc="-1" strike="noStrike">
                <a:solidFill>
                  <a:srgbClr val="ffff00"/>
                </a:solidFill>
                <a:latin typeface="Tahoma"/>
              </a:rPr>
              <a:t>Mus hortulanus</a:t>
            </a:r>
            <a:r>
              <a:rPr b="0" lang="en-US" sz="2400" spc="-1" strike="noStrike">
                <a:solidFill>
                  <a:srgbClr val="ffff00"/>
                </a:solidFill>
                <a:latin typeface="Tahoma"/>
              </a:rPr>
              <a:t>)</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po svom izgledu veoma je sličan kućnom mišu, ali se razlikuje po tome što gradi sistem podzemnih hodnika i humke. Ovaj glodar naseljava ravničarske predele (obrađene površine pod žitaricama). Rado jede i delove maladih biljaka, detelinu, lucerku itd. Hranu životinjskog porekla čine insekti i njihove larve, razni drugi zglavkari i mekušci.</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4038840"/>
          </a:xfrm>
          <a:prstGeom prst="rect">
            <a:avLst/>
          </a:prstGeom>
          <a:noFill/>
          <a:ln w="0">
            <a:noFill/>
          </a:ln>
        </p:spPr>
        <p:txBody>
          <a:bodyPr anchor="t">
            <a:normAutofit fontScale="86000"/>
          </a:bodyPr>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3.</a:t>
            </a:r>
            <a:r>
              <a:rPr b="0" lang="en-US" sz="2400" spc="-1" strike="noStrike">
                <a:solidFill>
                  <a:srgbClr val="ffffff"/>
                </a:solidFill>
                <a:latin typeface="Tahoma"/>
              </a:rPr>
              <a:t> </a:t>
            </a:r>
            <a:r>
              <a:rPr b="0" lang="en-US" sz="2400" spc="-1" strike="noStrike">
                <a:solidFill>
                  <a:srgbClr val="ffff00"/>
                </a:solidFill>
                <a:latin typeface="Tahoma"/>
              </a:rPr>
              <a:t>Mali šumski miš (</a:t>
            </a:r>
            <a:r>
              <a:rPr b="0" i="1" lang="en-US" sz="2400" spc="-1" strike="noStrike">
                <a:solidFill>
                  <a:srgbClr val="ffff00"/>
                </a:solidFill>
                <a:latin typeface="Tahoma"/>
              </a:rPr>
              <a:t>Apodemus sylvaticus</a:t>
            </a:r>
            <a:r>
              <a:rPr b="0" lang="en-US" sz="2400" spc="-1" strike="noStrike">
                <a:solidFill>
                  <a:srgbClr val="ffff00"/>
                </a:solidFill>
                <a:latin typeface="Tahoma"/>
              </a:rPr>
              <a:t>)</a:t>
            </a: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ećinom živi na otvorenijim i toplim staništima po obodu šuma, a neretko i na površinama sa poljoprivrednim kulturama, u baštama, rasadnicima i plantažama voća. Ponekad se može sresti i u seoskim kućama, stajama, ambarima za skladištenje žitarica. Uglavnom kopa sistem podzemnih hodnika sa jednim ulazom i više izlaznih otvora. U jednom od sporednih hodnika pravi gnezdo od suvog lišća, trave i grančica.</a:t>
            </a: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snovnu hranu malog šumskog miša čine plodovi drvenastih i zeljastih biljaka, nešto manje cvetovi i listovi biljaka. Važnu komponentu u ishrani čine insekti i njihove larve, kao i drugi zglavkari.</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je naročito štetan u rasadnicima i šumskim kulturama, jer nagriza i oštećuje koru, koren i pupoljke mladih drvenastih biljak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038840"/>
          </a:xfrm>
          <a:prstGeom prst="rect">
            <a:avLst/>
          </a:prstGeom>
          <a:noFill/>
          <a:ln w="0">
            <a:noFill/>
          </a:ln>
        </p:spPr>
        <p:txBody>
          <a:bodyPr anchor="t">
            <a:normAutofit fontScale="91000"/>
          </a:bodyPr>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4.</a:t>
            </a:r>
            <a:r>
              <a:rPr b="0" lang="en-US" sz="2400" spc="-1" strike="noStrike">
                <a:solidFill>
                  <a:srgbClr val="ffffff"/>
                </a:solidFill>
                <a:latin typeface="Tahoma"/>
              </a:rPr>
              <a:t> </a:t>
            </a:r>
            <a:r>
              <a:rPr b="0" lang="en-US" sz="2400" spc="-1" strike="noStrike">
                <a:solidFill>
                  <a:srgbClr val="ffff00"/>
                </a:solidFill>
                <a:latin typeface="Tahoma"/>
              </a:rPr>
              <a:t>Poljski miš (</a:t>
            </a:r>
            <a:r>
              <a:rPr b="0" i="1" lang="en-US" sz="2400" spc="-1" strike="noStrike">
                <a:solidFill>
                  <a:srgbClr val="ffff00"/>
                </a:solidFill>
                <a:latin typeface="Tahoma"/>
              </a:rPr>
              <a:t>Apodemus agrarius</a:t>
            </a:r>
            <a:r>
              <a:rPr b="0" lang="en-US" sz="2400" spc="-1" strike="noStrike">
                <a:solidFill>
                  <a:srgbClr val="ffff00"/>
                </a:solidFill>
                <a:latin typeface="Tahoma"/>
              </a:rPr>
              <a:t>) </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prvenstveno naseljav rubove šuma, proplanke, livade, njive, parkove, povrtnjake, rasadnike, bašte itd. Naseljava, takođe, i područja duž obala reka, potoka i bara.</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ishrani poljskog miša veliki udeo ima hrana životinjskog porekla (insekti i njihove larve, razni drugi zglavkari, mekušci ili gliste, pa i sitniji kičmenjaci (žabe, gušteri, mladunci ptice, miševi).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Značajna je štetočina, gotovo svih vrsta žitarica, krompira, repe, mahunastog povrća, suncokreta, maline, jagode i dr. Glode mlado drveće. Ugodinama masovne pojave, ponekad dolazi do većih migracija ovog glodara pri čemu na putu pojede sve što se može pojes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8"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voluharice iz rodova </a:t>
            </a:r>
            <a:r>
              <a:rPr b="0" i="1" lang="sr-Latn-CS" sz="2400" spc="-1" strike="noStrike">
                <a:solidFill>
                  <a:srgbClr val="ffffff"/>
                </a:solidFill>
                <a:latin typeface="Tahoma"/>
              </a:rPr>
              <a:t>Microtus</a:t>
            </a:r>
            <a:r>
              <a:rPr b="0" lang="sr-Latn-CS" sz="2400" spc="-1" strike="noStrike">
                <a:solidFill>
                  <a:srgbClr val="ffffff"/>
                </a:solidFill>
                <a:latin typeface="Tahoma"/>
              </a:rPr>
              <a:t>, </a:t>
            </a:r>
            <a:r>
              <a:rPr b="0" i="1" lang="sr-Latn-CS" sz="2400" spc="-1" strike="noStrike">
                <a:solidFill>
                  <a:srgbClr val="ffffff"/>
                </a:solidFill>
                <a:latin typeface="Tahoma"/>
              </a:rPr>
              <a:t>Pitymys</a:t>
            </a:r>
            <a:r>
              <a:rPr b="0" lang="sr-Latn-CS" sz="2400" spc="-1" strike="noStrike">
                <a:solidFill>
                  <a:srgbClr val="ffffff"/>
                </a:solidFill>
                <a:latin typeface="Tahoma"/>
              </a:rPr>
              <a:t>, </a:t>
            </a:r>
            <a:r>
              <a:rPr b="0" i="1" lang="sr-Latn-CS" sz="2400" spc="-1" strike="noStrike">
                <a:solidFill>
                  <a:srgbClr val="ffffff"/>
                </a:solidFill>
                <a:latin typeface="Tahoma"/>
              </a:rPr>
              <a:t>Arvicola</a:t>
            </a:r>
            <a:r>
              <a:rPr b="0" lang="sr-Latn-CS" sz="2400" spc="-1" strike="noStrike">
                <a:solidFill>
                  <a:srgbClr val="ffffff"/>
                </a:solidFill>
                <a:latin typeface="Tahoma"/>
              </a:rPr>
              <a:t>, </a:t>
            </a:r>
            <a:r>
              <a:rPr b="0" i="1" lang="sr-Latn-CS" sz="2400" spc="-1" strike="noStrike">
                <a:solidFill>
                  <a:srgbClr val="ffffff"/>
                </a:solidFill>
                <a:latin typeface="Tahoma"/>
              </a:rPr>
              <a:t>Clethrionomys</a:t>
            </a:r>
            <a:r>
              <a:rPr b="0" lang="sr-Latn-CS" sz="2400" spc="-1" strike="noStrike">
                <a:solidFill>
                  <a:srgbClr val="ffffff"/>
                </a:solidFill>
                <a:latin typeface="Tahoma"/>
              </a:rPr>
              <a:t> i </a:t>
            </a:r>
            <a:r>
              <a:rPr b="0" i="1" lang="sr-Latn-CS" sz="2400" spc="-1" strike="noStrike">
                <a:solidFill>
                  <a:srgbClr val="ffffff"/>
                </a:solidFill>
                <a:latin typeface="Tahoma"/>
              </a:rPr>
              <a:t>Ondatra</a:t>
            </a:r>
            <a:r>
              <a:rPr b="0" lang="sr-Latn-CS" sz="2400" spc="-1" strike="noStrike">
                <a:solidFill>
                  <a:srgbClr val="ffffff"/>
                </a:solidFill>
                <a:latin typeface="Tahoma"/>
              </a:rPr>
              <a:t> sa sledećim vrstama – poljska voluharica (</a:t>
            </a:r>
            <a:r>
              <a:rPr b="0" i="1" lang="sr-Latn-CS" sz="2400" spc="-1" strike="noStrike">
                <a:solidFill>
                  <a:srgbClr val="ffff00"/>
                </a:solidFill>
                <a:latin typeface="Tahoma"/>
              </a:rPr>
              <a:t>Microtus arvalis</a:t>
            </a:r>
            <a:r>
              <a:rPr b="0" lang="sr-Latn-CS" sz="2400" spc="-1" strike="noStrike">
                <a:solidFill>
                  <a:srgbClr val="ffffff"/>
                </a:solidFill>
                <a:latin typeface="Tahoma"/>
              </a:rPr>
              <a:t>), podzemna voluharica (</a:t>
            </a:r>
            <a:r>
              <a:rPr b="0" i="1" lang="sr-Latn-CS" sz="2400" spc="-1" strike="noStrike">
                <a:solidFill>
                  <a:srgbClr val="ffff00"/>
                </a:solidFill>
                <a:latin typeface="Tahoma"/>
              </a:rPr>
              <a:t>Pitymys subterraneus</a:t>
            </a:r>
            <a:r>
              <a:rPr b="0" lang="sr-Latn-CS" sz="2400" spc="-1" strike="noStrike">
                <a:solidFill>
                  <a:srgbClr val="ffffff"/>
                </a:solidFill>
                <a:latin typeface="Tahoma"/>
              </a:rPr>
              <a:t>), vodena voluharica (</a:t>
            </a:r>
            <a:r>
              <a:rPr b="0" i="1" lang="sr-Latn-CS" sz="2400" spc="-1" strike="noStrike">
                <a:solidFill>
                  <a:srgbClr val="ffff00"/>
                </a:solidFill>
                <a:latin typeface="Tahoma"/>
              </a:rPr>
              <a:t>Arvicola terrestris</a:t>
            </a:r>
            <a:r>
              <a:rPr b="0" lang="sr-Latn-CS" sz="2400" spc="-1" strike="noStrike">
                <a:solidFill>
                  <a:srgbClr val="ffffff"/>
                </a:solidFill>
                <a:latin typeface="Tahoma"/>
              </a:rPr>
              <a:t>), riđa voluharica (</a:t>
            </a:r>
            <a:r>
              <a:rPr b="0" i="1" lang="sr-Latn-CS" sz="2400" spc="-1" strike="noStrike">
                <a:solidFill>
                  <a:srgbClr val="ffff00"/>
                </a:solidFill>
                <a:latin typeface="Tahoma"/>
              </a:rPr>
              <a:t>Clethrionomys glareolus</a:t>
            </a:r>
            <a:r>
              <a:rPr b="0" lang="sr-Latn-CS" sz="2400" spc="-1" strike="noStrike">
                <a:solidFill>
                  <a:srgbClr val="ffffff"/>
                </a:solidFill>
                <a:latin typeface="Tahoma"/>
              </a:rPr>
              <a:t>) i ondatra ili bizamski pacov (</a:t>
            </a:r>
            <a:r>
              <a:rPr b="0" i="1" lang="sr-Latn-CS" sz="2400" spc="-1" strike="noStrike">
                <a:solidFill>
                  <a:srgbClr val="ffff00"/>
                </a:solidFill>
                <a:latin typeface="Tahoma"/>
              </a:rPr>
              <a:t>Ondatra zibethicus</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5.</a:t>
            </a:r>
            <a:r>
              <a:rPr b="0" lang="en-US" sz="2400" spc="-1" strike="noStrike">
                <a:solidFill>
                  <a:srgbClr val="ffffff"/>
                </a:solidFill>
                <a:latin typeface="Tahoma"/>
              </a:rPr>
              <a:t> </a:t>
            </a:r>
            <a:r>
              <a:rPr b="0" lang="en-US" sz="2400" spc="-1" strike="noStrike">
                <a:solidFill>
                  <a:srgbClr val="ffff00"/>
                </a:solidFill>
                <a:latin typeface="Tahoma"/>
              </a:rPr>
              <a:t>Žutogrli šumski miš (</a:t>
            </a:r>
            <a:r>
              <a:rPr b="0" i="1" lang="en-US" sz="2400" spc="-1" strike="noStrike">
                <a:solidFill>
                  <a:srgbClr val="ffff00"/>
                </a:solidFill>
                <a:latin typeface="Tahoma"/>
              </a:rPr>
              <a:t>Apodemus flavicolli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naseljava prvenstveno starije i više šumske sastojine, kao što su bukove i hrastove šume. Na višim planinama se ponekad sreće i u kamenjarima iznad granica šuma, na goletima i u kolibama. Često kao zaklon koristi napuštene rupe i hodnike drugih vrsta životi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ačin ishrane je sličan onom kod malog šumskog miša, s tim što on konzumira znatno veću količinu semena drveća a manje zeljastog bilja. Često pojede ili odnese u sklonište sve posejano seme šumskog drveća, pa je štetoćina u područjima gde se računa na prirodno podmlađivanje seme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 Voluharice (</a:t>
            </a:r>
            <a:r>
              <a:rPr b="0" i="1" lang="en-US" sz="2400" spc="-1" strike="noStrike">
                <a:solidFill>
                  <a:srgbClr val="ffff00"/>
                </a:solidFill>
                <a:latin typeface="Tahoma"/>
              </a:rPr>
              <a:t>Microtus, Clethrionomys, Pitymys, Arvicola, Odantra</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anas taksonomi smatraju da voluharice pripadaju familiji hrčkova (Cricetidae), kao posebna podfamilija Microtina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Za predstavnike voluharica je osobeno da imaju kratak rep (izuzimajući odantru), male ušne školjke, zdepasto telo, relativno veliku glavu, sitne oči i kratke no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1. Poljska voluharica (</a:t>
            </a:r>
            <a:r>
              <a:rPr b="0" i="1" lang="en-US" sz="2400" spc="-1" strike="noStrike">
                <a:solidFill>
                  <a:srgbClr val="ffff00"/>
                </a:solidFill>
                <a:latin typeface="Tahoma"/>
              </a:rPr>
              <a:t>Microtus arvalis</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bična poljska voluharica, poljska krtica, poljski glušec ili mali voluhar nastanjuje otvorena staništa.  Po pravilu nastanjuje otvorena staništa (livade, pašnjaci i obradive površine), ponekad zalazi i u kuće i bašte seoskih domaćinstava.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Kao i većina voluharica i ova je biljojedna vrsta. Jasno je izražena sezonska smena tipa ishrane. U toplo doba godine u hrani preovlađuju zeleni delovi zaljastih biljaka, a u jesen i zimu seme i delovi korenovog sistem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tencijalna je štetočina mladih sadnica mnogih vrsta drvenastih biljak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2. Šumska voluharica (</a:t>
            </a:r>
            <a:r>
              <a:rPr b="0" i="1" lang="en-US" sz="2400" spc="-1" strike="noStrike">
                <a:solidFill>
                  <a:srgbClr val="ffff00"/>
                </a:solidFill>
                <a:latin typeface="Tahoma"/>
              </a:rPr>
              <a:t>Clethrionomys glareolus</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3. Podzemna voluharica (</a:t>
            </a:r>
            <a:r>
              <a:rPr b="0" i="1" lang="en-US" sz="2400" spc="-1" strike="noStrike">
                <a:solidFill>
                  <a:srgbClr val="ffff00"/>
                </a:solidFill>
                <a:latin typeface="Tahoma"/>
              </a:rPr>
              <a:t>Pitymys subterrane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4. Vodena voluharica (</a:t>
            </a:r>
            <a:r>
              <a:rPr b="0" i="1" lang="en-US" sz="2400" spc="-1" strike="noStrike">
                <a:solidFill>
                  <a:srgbClr val="ffff00"/>
                </a:solidFill>
                <a:latin typeface="Tahoma"/>
              </a:rPr>
              <a:t>Arvicola terrestri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5. Ondatra (</a:t>
            </a:r>
            <a:r>
              <a:rPr b="0" i="1" lang="en-US" sz="2400" spc="-1" strike="noStrike">
                <a:solidFill>
                  <a:srgbClr val="ffff00"/>
                </a:solidFill>
                <a:latin typeface="Tahoma"/>
              </a:rPr>
              <a:t>Ondatra zibethica</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izamski pacov, bizamac su česti nazivi. Živi prevashodno na vlažnim staništima uz stajaće i tekuće vode. Kopa podzemne hodnike čiji se otvori nalaze </a:t>
            </a:r>
            <a:r>
              <a:rPr b="0" lang="sr-Latn-CS" sz="2400" spc="-1" strike="noStrike">
                <a:solidFill>
                  <a:srgbClr val="ffffff"/>
                </a:solidFill>
                <a:latin typeface="Tahoma"/>
              </a:rPr>
              <a:t>u</a:t>
            </a:r>
            <a:r>
              <a:rPr b="0" lang="en-US" sz="2400" spc="-1" strike="noStrike">
                <a:solidFill>
                  <a:srgbClr val="ffffff"/>
                </a:solidFill>
                <a:latin typeface="Tahoma"/>
              </a:rPr>
              <a:t> ili ispod nivoa vod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 je pretežno biljojedna životinja, čineći velike štet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4. Veliki ili običan hrčak (</a:t>
            </a:r>
            <a:r>
              <a:rPr b="0" i="1" lang="en-US" sz="2400" spc="-1" strike="noStrike">
                <a:solidFill>
                  <a:srgbClr val="ffff00"/>
                </a:solidFill>
                <a:latin typeface="Tahoma"/>
              </a:rPr>
              <a:t>Cricetus cricet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5. Tekunica (</a:t>
            </a:r>
            <a:r>
              <a:rPr b="0" i="1" lang="en-US" sz="2400" spc="-1" strike="noStrike">
                <a:solidFill>
                  <a:srgbClr val="ffff00"/>
                </a:solidFill>
                <a:latin typeface="Tahoma"/>
              </a:rPr>
              <a:t>Spermophilus citell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6. Slepo kuče (</a:t>
            </a:r>
            <a:r>
              <a:rPr b="0" i="1" lang="en-US" sz="2400" spc="-1" strike="noStrike">
                <a:solidFill>
                  <a:srgbClr val="ffff00"/>
                </a:solidFill>
                <a:latin typeface="Tahoma"/>
              </a:rPr>
              <a:t>Spalax leucedon </a:t>
            </a:r>
            <a:r>
              <a:rPr b="0" lang="en-US" sz="2400" spc="-1" strike="noStrike">
                <a:solidFill>
                  <a:srgbClr val="ffff00"/>
                </a:solidFill>
                <a:latin typeface="Tahoma"/>
              </a:rPr>
              <a:t>superspecies complex)</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PIZOOTIOLOČKO-EPIDEMIOLOŠKI ZNAČAJ ŠTETNIH GLODARA</a:t>
            </a:r>
            <a:endParaRPr b="0" lang="en-US" sz="28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jedine  vrste štetnih glodara bile su i još uvek jesu uporni pratioci čoveka, što za posledicu ima značajne ekonomske i zdravstvene efekte u negativnom smislu. Sitni glodari su uzročnici i prenosioci niza ozbiljnih zaraznih oboljenja i čoveka, ali i domaćih i divljih životinja, a takođe igraju nesumnivo važnu ulogu u epizootijama među sitnim sisar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 prenošenja infektivnog materijala</a:t>
            </a:r>
            <a:endParaRPr b="0" lang="en-US" sz="28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ouzrokovači infekcija izlučuju se putem ekskremenata glodara, pa se na taj način kontaminiraju životne namirnice i odevni predmeti. Kod nekih infekcija buve, krpelji, komarci i drugi člankonošci prenose prouzrokovače oboljenja glodara na čoveka i domaće  životinje. Niz infekcija glodari mogu preneti i mehanički, ali i direktnim ugriz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0"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hrčkovi, sa predstavnikom </a:t>
            </a:r>
            <a:r>
              <a:rPr b="0" i="1" lang="sr-Latn-CS" sz="2400" spc="-1" strike="noStrike">
                <a:solidFill>
                  <a:srgbClr val="ffff00"/>
                </a:solidFill>
                <a:latin typeface="Tahoma"/>
              </a:rPr>
              <a:t>Cricetus cricet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a:t>
            </a:r>
            <a:r>
              <a:rPr b="0" lang="sr-Latn-CS" sz="2400" spc="-1" strike="noStrike">
                <a:solidFill>
                  <a:srgbClr val="ffff00"/>
                </a:solidFill>
                <a:latin typeface="Tahoma"/>
              </a:rPr>
              <a:t> </a:t>
            </a:r>
            <a:r>
              <a:rPr b="0" lang="sr-Latn-CS" sz="2400" spc="-1" strike="noStrike">
                <a:solidFill>
                  <a:srgbClr val="ffffff"/>
                </a:solidFill>
                <a:latin typeface="Tahoma"/>
              </a:rPr>
              <a:t>tekunice, vrsta</a:t>
            </a:r>
            <a:r>
              <a:rPr b="0" lang="sr-Latn-CS" sz="2400" spc="-1" strike="noStrike">
                <a:solidFill>
                  <a:srgbClr val="ffff00"/>
                </a:solidFill>
                <a:latin typeface="Tahoma"/>
              </a:rPr>
              <a:t> </a:t>
            </a:r>
            <a:r>
              <a:rPr b="0" i="1" lang="sr-Latn-CS" sz="2400" spc="-1" strike="noStrike">
                <a:solidFill>
                  <a:srgbClr val="ffff00"/>
                </a:solidFill>
                <a:latin typeface="Tahoma"/>
              </a:rPr>
              <a:t>Citellus citell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ahoma"/>
              </a:rPr>
              <a:t>   </a:t>
            </a:r>
            <a:r>
              <a:rPr b="0" lang="sr-Latn-CS" sz="2400" spc="-1" strike="noStrike">
                <a:solidFill>
                  <a:srgbClr val="ffffff"/>
                </a:solidFill>
                <a:latin typeface="Tahoma"/>
              </a:rPr>
              <a:t>- slepi kučići (predstavnici roda</a:t>
            </a:r>
            <a:r>
              <a:rPr b="0" lang="sr-Latn-CS" sz="2400" spc="-1" strike="noStrike">
                <a:solidFill>
                  <a:srgbClr val="ffff00"/>
                </a:solidFill>
                <a:latin typeface="Tahoma"/>
              </a:rPr>
              <a:t> </a:t>
            </a:r>
            <a:r>
              <a:rPr b="0" i="1" lang="sr-Latn-CS" sz="2400" spc="-1" strike="noStrike">
                <a:solidFill>
                  <a:srgbClr val="ffff00"/>
                </a:solidFill>
                <a:latin typeface="Tahoma"/>
              </a:rPr>
              <a:t>Spalax</a:t>
            </a:r>
            <a:r>
              <a:rPr b="0" lang="sr-Latn-CS" sz="2400" spc="-1" strike="noStrike">
                <a:solidFill>
                  <a:srgbClr val="ffffff"/>
                </a:solidFill>
                <a:latin typeface="Tahoma"/>
              </a:rPr>
              <a:t>,</a:t>
            </a:r>
            <a:r>
              <a:rPr b="0" lang="sr-Latn-CS" sz="2400" spc="-1" strike="noStrike">
                <a:solidFill>
                  <a:srgbClr val="ffff00"/>
                </a:solidFill>
                <a:latin typeface="Tahoma"/>
              </a:rPr>
              <a:t> </a:t>
            </a:r>
            <a:r>
              <a:rPr b="0" lang="sr-Latn-CS" sz="2400" spc="-1" strike="noStrike">
                <a:solidFill>
                  <a:srgbClr val="ffffff"/>
                </a:solidFill>
                <a:latin typeface="Tahoma"/>
              </a:rPr>
              <a:t>odnosno</a:t>
            </a:r>
            <a:r>
              <a:rPr b="0" lang="sr-Latn-CS" sz="2400" spc="-1" strike="noStrike">
                <a:solidFill>
                  <a:srgbClr val="ffff00"/>
                </a:solidFill>
                <a:latin typeface="Tahoma"/>
              </a:rPr>
              <a:t> </a:t>
            </a:r>
            <a:r>
              <a:rPr b="0" i="1" lang="sr-Latn-CS" sz="2400" spc="-1" strike="noStrike">
                <a:solidFill>
                  <a:srgbClr val="ffff00"/>
                </a:solidFill>
                <a:latin typeface="Tahoma"/>
              </a:rPr>
              <a:t>Nanospalax</a:t>
            </a:r>
            <a:r>
              <a:rPr b="0" lang="sr-Latn-CS" sz="2400" spc="-1" strike="noStrike">
                <a:solidFill>
                  <a:srgbClr val="ffff00"/>
                </a:solidFill>
                <a:latin typeface="Tahoma"/>
              </a:rPr>
              <a:t> </a:t>
            </a:r>
            <a:r>
              <a:rPr b="0" lang="sr-Latn-CS" sz="2400" spc="-1" strike="noStrike">
                <a:solidFill>
                  <a:srgbClr val="ffffff"/>
                </a:solidFill>
                <a:latin typeface="Tahoma"/>
              </a:rPr>
              <a:t>sa kompleksnom vrstom</a:t>
            </a:r>
            <a:r>
              <a:rPr b="0" lang="sr-Latn-CS" sz="2400" spc="-1" strike="noStrike">
                <a:solidFill>
                  <a:srgbClr val="ffff00"/>
                </a:solidFill>
                <a:latin typeface="Tahoma"/>
              </a:rPr>
              <a:t> </a:t>
            </a:r>
            <a:r>
              <a:rPr b="0" i="1" lang="sr-Latn-CS" sz="2400" spc="-1" strike="noStrike">
                <a:solidFill>
                  <a:srgbClr val="ffff00"/>
                </a:solidFill>
                <a:latin typeface="Tahoma"/>
              </a:rPr>
              <a:t>S. Leucodon</a:t>
            </a:r>
            <a:r>
              <a:rPr b="0" lang="sr-Latn-CS" sz="2400" spc="-1" strike="noStrike">
                <a:solidFill>
                  <a:srgbClr val="ffff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 prenošenja infektivnog materijala</a:t>
            </a:r>
            <a:endParaRPr b="0" lang="en-US" sz="28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otrazi za hranom štetni glodari, naročiti sivi pacov, posećuju septičke jame, inficirana đubrišta, a potom i skladišta hrane, objekte za snabdevanje vodom, stambene i poslovne prostorije, ugostiteljske objekte itd., čime se rizik infekcija hranom umnogome poveć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2"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uzrokovane bakterijam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Štetni glodari često su prenosioci čitavog niza bakterijskih oboljenja na ljude i životinje, od koji su neka od posebnog značaja, na primer:</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ularemija, leptospiroze, bruceloza, botulizam, salmoneloloze, meidioza, pastoreloza, pseudotuberkuloza, tuberkuloza, kuga, sodoku, lepra i 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4"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rikecijama i virusi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Imajući u vidu veliki broj rikecioza (oko 30), pri čemu su neke od njih veoma slične, ovom prilikom spomenućemo neke: murini pegavac, pegavac šipražja i rikecijske boginj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 obzirom na značaj sitnih glodara kao prenosilaca virusne infekcije na domaće životinje i čoveka, nabrojaću sledeće: krpeljski encefalitis, limfocetarni horiomeningitis, hemoragičnu groznicu, besnilo, slinavku i šap, Aujekcijevu bolest i 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6"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gljivica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Najčešće su to različiti vidovi dermatomikoza i trihofitija, na primer favus, histoplazmoza i sporotrihoz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8" name=""/>
          <p:cNvSpPr txBox="1"/>
          <p:nvPr/>
        </p:nvSpPr>
        <p:spPr>
          <a:xfrm>
            <a:off x="380520" y="1600200"/>
            <a:ext cx="84582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paraziti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azivač lajšmanioze je od posebnog značaja. Klinički se razlikuju dva oblika bolesti: lajšmanijaza unutrašnjih organa (kala-azar), lajšmanijaza kože i sluzokož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znato je da sivi i crni pacov i donekle kućni miš mogu imati važnu ulogu u prenošenju parazitskih cr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ročit je značaj u širenju trihineloz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renošenju izazivača kokcidioze učestvuju i mišoliki glodari, naročito sivi pac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0"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Još uvek je gotovo nemoguće ekonomske gubitke prouzrokovane glodarima iskazati precizno novčanom vrednošću. SZO procenjuje da oko 33 miliona tone hrane namenjene ljudskoj ishrani biva pojedeno ili uništeno širom sveta od strane mišolikih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2"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Eksperti FAO su izračunali da se na taj način gubi 5% od ukupno proizvedene hrane. Nepovratno izgubljena količina hrane bila bi dovoljna da se ishrani 130 miliona ljud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oviji podaci govore da je negativnom aktivnošću glodara i insekata izgubljeno čak 20% hrane namenjene ishrani ljudi i domaćih životi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4"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ma proceni Ministarstva za poljoprivredu SAD-a, štete koje nanose glodari u toj zemlji iznose približno 5 miliona dolara dnevno.</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FAO daje podatak da štetni glodari u čitavom svetu pojedu ili unište u toku godine materijalna dobra u vrednosti od preko 5 milijardi američki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6"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tete koje nanose mišoliki glodari mogle bi da se svedu na:</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hraniva i gotove hrane biljnog i životinjskog porekla, namenjenih ishrani domaćih životinja i ljudi, koje glodari pojedu, upropaste razvlačenjem ili zagade;</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poljoprivrednih i povrtarski kultura na poljima i u baštama, u prvom redu žitarica i povrća;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semena i sadnica u rasadnicima, plodova voća u voćnjacima i skladištim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8"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građevinski objekata i njihovih delova kao što su temelji, podovi, vrata, električna, vodovodna, toplovodna i kanalizaciona instalacija, zatim rečni i železnički nasipi, sportski tereni i dr.;</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štećivanje nameštaja, tekstilnih, kožnih i drugih proizvoda u fabričkim halama, magacinima i domovima;</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arhivskog materijala, umetničkih predmeta i kulturnih dobara u bibliotekama, arhivama, muzejima i galerij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2"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Uspešno suzbijanje populacije ne može se zamisliti bez dobrog poznavanja njihovih bioloških osobenosti i populacione ekologije. Od posebnog značaja je poznavanje načina života, morfoloških i fizioloških karakteristika, načina ishrane, reprodukcije, kao i ekoloških faktoai koji u većem ili manjem stepenu utiču na pojedine populacione atrib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60"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štećivanje tehničkih uređaja i instalacija u industrijskim pogonima, na aerodromima, u vojnim magacinama, plovnim objektima, i s tim u vezi izazivanje havarija, požara, obustavljanje proizvodnje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66880"/>
            <a:ext cx="82296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00"/>
                </a:solidFill>
                <a:latin typeface="Tahoma"/>
              </a:rPr>
              <a:t>HVALA NA PAŽNJI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22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DERATI</a:t>
            </a:r>
            <a:r>
              <a:rPr b="0" lang="sr-Latn-CS" sz="4400" spc="-1" strike="noStrike">
                <a:solidFill>
                  <a:srgbClr val="ffff00"/>
                </a:solidFill>
                <a:latin typeface="Tahoma"/>
              </a:rPr>
              <a:t>ZACIJA</a:t>
            </a:r>
            <a:br>
              <a:rPr sz="4400"/>
            </a:br>
            <a:br>
              <a:rPr sz="2800"/>
            </a:br>
            <a:r>
              <a:rPr b="0" lang="sr-Latn-CS" sz="2800" spc="-1" strike="noStrike">
                <a:solidFill>
                  <a:srgbClr val="ffff00"/>
                </a:solidFill>
                <a:latin typeface="Arial"/>
              </a:rPr>
              <a:t>NAČIN I SREDSTVA ZA DERATIZACIJU</a:t>
            </a:r>
            <a:endParaRPr b="0" lang="en-US" sz="2800" spc="-1" strike="noStrike">
              <a:solidFill>
                <a:srgbClr val="000000"/>
              </a:solidFill>
              <a:latin typeface="Arial"/>
            </a:endParaRPr>
          </a:p>
        </p:txBody>
      </p:sp>
      <p:sp>
        <p:nvSpPr>
          <p:cNvPr id="163" name="PlaceHolder 2"/>
          <p:cNvSpPr>
            <a:spLocks noGrp="1"/>
          </p:cNvSpPr>
          <p:nvPr>
            <p:ph type="subTitle"/>
          </p:nvPr>
        </p:nvSpPr>
        <p:spPr>
          <a:xfrm>
            <a:off x="1371600" y="43430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ff00"/>
                </a:solidFill>
                <a:latin typeface="Tahoma"/>
              </a:rPr>
              <a:t>Prof. dr</a:t>
            </a:r>
            <a:r>
              <a:rPr b="0" lang="sr-Latn-CS" sz="3200" spc="-1" strike="noStrike">
                <a:solidFill>
                  <a:srgbClr val="ffff00"/>
                </a:solidFill>
                <a:latin typeface="Tahoma"/>
              </a:rPr>
              <a:t> Zoran Veličk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1. Preventivn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 služe direktnom suzbijanju i uništavanju. Preduzimaju se da se stvore uslovi koji će umanjiti ili potpuno isključiti mogućnost naseljavanja mišolikoh glodara u različite objekte ili na otvorene površine, a ukoliko do toga dođe, da im se daljim merama uskrate osnovni uslovi za opstanak.</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ventivne mere retko se primenjuju kao samostalne, a većim delom predstavljaju sastavni i nerazdvojni deo ukupnog deratizacionog proces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visno od osnovnog cilja koji se želi postići, mogu se podeliti 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mere kojima se stvaraju što nepovoljniji uslovi za ishranu i opstanak štetnih glodara, i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mere kojima se sprečava naseljavanje glodara u objekte i na površine otvorenog i zatvorenog tip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okviru mera kojima se stvaraju nepovoljni uslovi za ishranu i opstanak štetnih glodara nalaze s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grotehničk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hnološko – manipulativne mere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sanitarno – higijenske 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7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sprečavanju naseljavanja mišolikih glodara u objekte i na površine, od koristi s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građevinsko – tehničk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repelenata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zvučnih izvora visoke frekv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Agrotehničke mere</a:t>
            </a:r>
            <a:endParaRPr b="0" lang="en-US" sz="2800" spc="-1" strike="noStrike">
              <a:solidFill>
                <a:srgbClr val="000000"/>
              </a:solidFill>
              <a:latin typeface="Arial"/>
            </a:endParaRPr>
          </a:p>
        </p:txBody>
      </p:sp>
      <p:sp>
        <p:nvSpPr>
          <p:cNvPr id="17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astoje se u primeni dubokog oranja, prekopavanu i sitnjenju zemljišta, paljenju “strnjišta” i korovskog bil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uboko oranje predstavlja izvanrednu prevenitivnu meru kojom se menjaju povoljni uslovi za opstanak štetnih glodar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kopavanjem i zagrtanjem, a time i čestim prisustvom čoveka na poljoprivrednim parcelama, štetni glodari se uznemiravaju, njihova legla, skladišta sa hranom i sistem hodnika se ugrožavaju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e mere odnose se na tehnologiju smeštaja i manipulisanja sa raznim sirovinama, poluproizvodima i proizvodima u skladištima, ambarima, ostavama itd.</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asuta, ako roba dugo stoji, stvaraju se povoljni uslovi za naseljavanje i njihovo neometano razmnožavanj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red toga što smeštajni prostor mora biti pravilno izgrađen, značajno je da roba u magacinima bude složena i vidu manjih celina na policama ili paletama, da se naslanja na zidove i da između robe postoje prolazi čime se omogućava kontrola, manipulacija i održavanje čistoć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4"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Obuhvata mere zaštite i borbu protiv glodara – štetočina i prenosilaca mnogih zaraznih bolesti ljudi i životinj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Tahoma"/>
              </a:rPr>
              <a:t>    </a:t>
            </a:r>
            <a:r>
              <a:rPr b="0" lang="sr-Latn-CS" sz="2400" spc="-1" strike="noStrike">
                <a:solidFill>
                  <a:srgbClr val="ffffff"/>
                </a:solidFill>
                <a:latin typeface="Tahoma"/>
              </a:rPr>
              <a:t>Pored velikog higijensko - epidemiološkog efekta, smanjuju se i ogromne materijalne št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obu treba povremeno premeštati jer se glodari uznemiravaju i rasteruju, a njihova gnezda i tek okoćeni mladunci lakše otkrivaju i uništavaj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Žitarice, polugotova ili gotova hrana i druge životne namirnice trebalo bi da se drže u sanducima i na policama odmaknutim od zido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8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mirnice koje se obrađuju se nesmeju gomilati i dugo zadržavat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oguće je da se glodari ovim namirnicama i ambalažom unesu u skladišta namenjena dugotrjnom skladištenju ili pak transportovati do magacina hotela, bolnica i drugih objek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bor ovih mera zavisi od vrste i namena objekta u kojima treba da se primene i sve one se uglavnom svode na postupke kojima se stvaraju nepovoljni uslovi za egzistenciju štetnih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ojedinim sličajevima primenjuje se uništavanje korova, u drugim se preduzim sređivanje i uredno slaganje rashodovanog materijala, primena bolje tehnologije u smeštaju, manipulaciji i korišćenju određenih artikala, kako bi se izbeglo rasipanje, zatim pranje prostorija u kojima se deponuju otpaci, pranje i dezinfekcija kontejnera za smeštaj otpadaka, redovno odnošenje otpadak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okviru sanitarno-higijenskih mera treba koristiti činjenicu da neke vrste mišolikih glodara teško podnose žeđ.</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akupljanje otpadnih materija i nečistoća treba vršiti svakodnevno uz odgovarajući način uklanja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vedene mere trebalo bi da budu sastavni deo “kućnog reda” svake radne organizacije i stambenih objekata. Važno je podići kulturu stanovanja i sanitarno-higejenske mere na nivo koji će nam obezbediti neometan rad, odmor i rekreaciju i istovremeno umanjiti negativne posledice aktivnosti populacije štetnih glod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dealnim rešenjem objekat bi trebalo da predstavljaju neprobojnu barijeru za ulazak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gradnja temelja zaslužuje posebnu pažnju, oni moraju da se grade od armiranih betona i da su ukopani u zemlju (100-120 cm) i isto toliko izdignuti. Od značaja je i izgradnja betonskih trotoara koji se naslanjaju na spoljašne strane objekt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3" name=""/>
          <p:cNvSpPr txBox="1"/>
          <p:nvPr/>
        </p:nvSpPr>
        <p:spPr>
          <a:xfrm>
            <a:off x="380520" y="1600200"/>
            <a:ext cx="8458200" cy="4525920"/>
          </a:xfrm>
          <a:prstGeom prst="rect">
            <a:avLst/>
          </a:prstGeom>
          <a:noFill/>
          <a:ln w="0">
            <a:noFill/>
          </a:ln>
        </p:spPr>
        <p:txBody>
          <a:bodyPr anchor="t">
            <a:normAutofit fontScale="93000"/>
          </a:bodyPr>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idovi takođe moraju biti izgrađeni od tvrdog materijala otpornog na glodanje.</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sim čelične armature u beton podova i u njihovi podlogu stavlja se sitno lomljeno staklo koje umnogome sprečavaju prodiranje glodara.</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oručuje se da se u skladištima robe ugrađuju metalna vrata i prozori. Drvena vrata mogu biti zaštićena ukoliko se u njihovom donjem delu postavi obloga od lima. Bitna je i tehnička ispravnost postavljenih vrata. Poželjan je i prag vrata od čvrstog materijala.</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tavljanje žičanih mreža na prozore pruža solidnu zaštitu od ulaska štetoči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eban problem predstavljaju različiti otvori načinjeni pri instaliranju kanalizacionih i ventilacioni sistema ili ugrađivanju vodovodnih, električnih, toplovodnih i gasovodnih instalacija. Ukoliko otvori nisu blagovremeno i solidno popunjeni oni će predstavljati puteve ulaska u objeka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Repelenti</a:t>
            </a:r>
            <a:endParaRPr b="0" lang="en-US" sz="2800" spc="-1" strike="noStrike">
              <a:solidFill>
                <a:srgbClr val="000000"/>
              </a:solidFill>
              <a:latin typeface="Arial"/>
            </a:endParaRPr>
          </a:p>
        </p:txBody>
      </p:sp>
      <p:sp>
        <p:nvSpPr>
          <p:cNvPr id="197" name=""/>
          <p:cNvSpPr txBox="1"/>
          <p:nvPr/>
        </p:nvSpPr>
        <p:spPr>
          <a:xfrm>
            <a:off x="380520" y="1600200"/>
            <a:ext cx="8458200" cy="4525920"/>
          </a:xfrm>
          <a:prstGeom prst="rect">
            <a:avLst/>
          </a:prstGeom>
          <a:noFill/>
          <a:ln w="0">
            <a:noFill/>
          </a:ln>
        </p:spPr>
        <p:txBody>
          <a:bodyPr anchor="t">
            <a:normAutofit fontScale="92000"/>
          </a:bodyPr>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o su sredstva koja primenjena na odgovarajući način na površine i predmete mogu odbijati ili rasterivati pripadnike određenih životinjskih vrsta, počev od insekata pa do ptica i sasara.</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epelent mora da deluje nadražujuće preko čula mirisa, a ne preko čula ukusa glodara i ne sme da izaziva averzije kod čoveka.</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o relativno uspešni repelenti se navode u literaturi:</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kriljčevo ulje (dobija se obradom čkriljaca), Albihtol (takođe proizvod škriljaca, sadrži 12% sumpora), cinkova so , cimat.</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6" name="PlaceHolder 2"/>
          <p:cNvSpPr>
            <a:spLocks noGrp="1"/>
          </p:cNvSpPr>
          <p:nvPr>
            <p:ph/>
          </p:nvPr>
        </p:nvSpPr>
        <p:spPr>
          <a:xfrm>
            <a:off x="457200" y="2133720"/>
            <a:ext cx="8229600" cy="3657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Arial"/>
              </a:rPr>
              <a:t>    </a:t>
            </a:r>
            <a:r>
              <a:rPr b="0" lang="sr-Latn-CS" sz="2400" spc="-1" strike="noStrike">
                <a:solidFill>
                  <a:srgbClr val="ffffff"/>
                </a:solidFill>
                <a:latin typeface="Tahoma"/>
              </a:rPr>
              <a:t>Jedan pacov dnevno pojede oko 60 gr. kuvanog krompira, 35-49 gr. zrna žitarica ili 25-30 g. dimljenog mes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Stručnjaci SZO procenjuju da glodari godišnje pojedu u celom svetu 33 miliona tona žitarica, a više od 20% hrane koje ljudi godišnje poseju propada zbog štet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FAO procenjuje da pacovi godišnje pojedu i unište hranu u vrednosti od preko 5 milijardi dolara.</a:t>
            </a:r>
            <a:r>
              <a:rPr b="0" lang="sr-Latn-CS" sz="2400" spc="-1" strike="noStrike">
                <a:solidFill>
                  <a:srgbClr val="99cc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Ultrazvučni i elekrtomagnetski talasi</a:t>
            </a:r>
            <a:endParaRPr b="0" lang="en-US" sz="2800" spc="-1" strike="noStrike">
              <a:solidFill>
                <a:srgbClr val="000000"/>
              </a:solidFill>
              <a:latin typeface="Arial"/>
            </a:endParaRPr>
          </a:p>
        </p:txBody>
      </p:sp>
      <p:sp>
        <p:nvSpPr>
          <p:cNvPr id="199" name=""/>
          <p:cNvSpPr txBox="1"/>
          <p:nvPr/>
        </p:nvSpPr>
        <p:spPr>
          <a:xfrm>
            <a:off x="380520" y="1600200"/>
            <a:ext cx="8458200" cy="4525920"/>
          </a:xfrm>
          <a:prstGeom prst="rect">
            <a:avLst/>
          </a:prstGeom>
          <a:noFill/>
          <a:ln w="0">
            <a:noFill/>
          </a:ln>
        </p:spPr>
        <p:txBody>
          <a:bodyPr anchor="t">
            <a:normAutofit fontScale="81000"/>
          </a:bodyPr>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ora se istaći da tvrdnja proizvođača ultrazvučnih aparata, po kojima oni emitujući talase ubijaju glodare il deluju destruktivno na njihovo ponašanje i na taj način eliminišu infestaciju, nije naučno dokazana.</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va su osnovna razloga zbog kojih ultrazvučni talasi ne utiču značajno na ponašanje mišolikih glodara. Prvo, ovi talasi ne prolaze kroz čvrste kroz čvrste predmete, već se lako apsorbuju na mnogim površinama.</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o, talasi vrlo brzo gube energiju prolazeći kroz vazdušnu sredinu, što iziskuje upotrebu snažnih izvora zvuka. Na osnovu podataka smatra se da ultrazvuk može biti korisniji kao atraktant nego kao “zastrašivač”.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Mehaničko – fizički metod</a:t>
            </a:r>
            <a:endParaRPr b="0" lang="en-US" sz="2800" spc="-1" strike="noStrike">
              <a:solidFill>
                <a:srgbClr val="000000"/>
              </a:solidFill>
              <a:latin typeface="Arial"/>
            </a:endParaRPr>
          </a:p>
        </p:txBody>
      </p:sp>
      <p:sp>
        <p:nvSpPr>
          <p:cNvPr id="20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metod je bezopasan za čoveka. Koristi se na ograničenom prostoru ili u objedktu infestiranom malim brojem glodara. Moguće ga je primeniti i u slučajevima zabrane korišćenja hemijskih preparata, kao i u cilju parazitoloških i drugih istraživa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ehanički metod primenjuje se i radi hvatanja glodara na određenom lokalitetu u cilju ustanovljanja vrsti, procene njihove brojnosi pre i nakon izvođenja deratizacije hemijskim sredstvima.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Mehaničko – fizički metod</a:t>
            </a:r>
            <a:endParaRPr b="0" lang="en-US" sz="2800" spc="-1" strike="noStrike">
              <a:solidFill>
                <a:srgbClr val="000000"/>
              </a:solidFill>
              <a:latin typeface="Arial"/>
            </a:endParaRPr>
          </a:p>
        </p:txBody>
      </p:sp>
      <p:sp>
        <p:nvSpPr>
          <p:cNvPr id="20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i nekoliko mogućnosti od kojih pažnju zaslužuj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glodara nalivanjem vode u njihove aktivne rup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primena zaštitnih šanče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blokiranje prostori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improvizovanih mišolovki i pacolovk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mehaničkih i električnih klopki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lepljivih mas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Biološki metod</a:t>
            </a:r>
            <a:endParaRPr b="0" lang="en-US" sz="2800" spc="-1" strike="noStrike">
              <a:solidFill>
                <a:srgbClr val="000000"/>
              </a:solidFill>
              <a:latin typeface="Arial"/>
            </a:endParaRPr>
          </a:p>
        </p:txBody>
      </p:sp>
      <p:sp>
        <p:nvSpPr>
          <p:cNvPr id="205"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biološko suzbijanje i uništavanje štetnih glodara mogu se koristiti paraziti, grabljivci ili patogeni mikroorganizm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rirodi postoji veći broj životinjskih vrsta, pretežno sisara i ptica, koje su prirodni neprijatelji mišolikih glodara. Iako se na urođeni instikt predatora ne može uticati (nemoguće ga je usmeriti prema čovekovim željama i potrebama), prirodni neprijatelji glodara imaju određeni udeo u smanjenju njihove brojnost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ebnu sklonost ka hvatanju imaju lisica, lasica, kuna zlatica i tvor, a donekle i mungos. </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Biološki metod</a:t>
            </a:r>
            <a:endParaRPr b="0" lang="en-US" sz="2800" spc="-1" strike="noStrike">
              <a:solidFill>
                <a:srgbClr val="000000"/>
              </a:solidFill>
              <a:latin typeface="Arial"/>
            </a:endParaRPr>
          </a:p>
        </p:txBody>
      </p:sp>
      <p:sp>
        <p:nvSpPr>
          <p:cNvPr id="20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Jedan od pokušaja suzbijanja bio je primenom mikroorganizama. Ovaj metod se zasniva na veštačkom zaražavanju specifičnim mikroorganzmima. S obzirom da su neki sojevi bili zarazni i za čoveka, domaće i divlje životinje koje nisu bile cilj suzbijanja njihova upotreba je bila zabranjena u mnogim zemlja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4. Genetski metod</a:t>
            </a:r>
            <a:endParaRPr b="0" lang="en-US" sz="2800" spc="-1" strike="noStrike">
              <a:solidFill>
                <a:srgbClr val="000000"/>
              </a:solidFill>
              <a:latin typeface="Arial"/>
            </a:endParaRPr>
          </a:p>
        </p:txBody>
      </p:sp>
      <p:sp>
        <p:nvSpPr>
          <p:cNvPr id="209"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e dve mogućnosti kojim bi se redukovala brojnost pojedinih vrsta štetnih glodara primenom saznanja iz oblasti genetik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a mogućnost je uništavanje jedinki na taj način što bi se koristio destruktivni gen koji ima sposobnost da povećava osetljivost životinje na prirodne bolest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a mogučnost je puštanje na slobodu sterilnih jedinki. Kod ovih životinja nije narušen polni nagon i pri parenju dolazi pojave lažnog steriliteta. Međutim, ovo se pokazalo kao nefekasnom metodom jer je veliki broj sterilnih mužjaka vrlo brzo uginuo u prirod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5. Hemijski metod</a:t>
            </a:r>
            <a:endParaRPr b="0" lang="en-US" sz="2800" spc="-1" strike="noStrike">
              <a:solidFill>
                <a:srgbClr val="000000"/>
              </a:solidFill>
              <a:latin typeface="Arial"/>
            </a:endParaRPr>
          </a:p>
        </p:txBody>
      </p:sp>
      <p:sp>
        <p:nvSpPr>
          <p:cNvPr id="211" name=""/>
          <p:cNvSpPr txBox="1"/>
          <p:nvPr/>
        </p:nvSpPr>
        <p:spPr>
          <a:xfrm>
            <a:off x="380520" y="1600200"/>
            <a:ext cx="8458200" cy="4525920"/>
          </a:xfrm>
          <a:prstGeom prst="rect">
            <a:avLst/>
          </a:prstGeom>
          <a:noFill/>
          <a:ln w="0">
            <a:noFill/>
          </a:ln>
        </p:spPr>
        <p:txBody>
          <a:bodyPr anchor="t">
            <a:normAutofit fontScale="95000"/>
          </a:bodyPr>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sada to je najefikasniji i najbrži način redukcije prenamnoženih populacija štetnih glodara. Upotreba hemijskih sredstava dobila je još više na značaju nakon sintetisanja antikoagulantnih i antifertilitetnih jedinjenja koja nalaze široku primenu u praksi i istovremeno potiskuju sada već klasične žestoke ili trenutne otrove.</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jihova prednost je u tome što se mogu koristiti u različitim vidovima i na velikim površinam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metod ima i svoju negativnu stranu jer pojedina sredstva koja se koriste su štetna i za ljude i domaće i divlje životinje.</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5. Hemijski metod</a:t>
            </a:r>
            <a:endParaRPr b="0" lang="en-US" sz="2800" spc="-1" strike="noStrike">
              <a:solidFill>
                <a:srgbClr val="000000"/>
              </a:solidFill>
              <a:latin typeface="Arial"/>
            </a:endParaRPr>
          </a:p>
        </p:txBody>
      </p:sp>
      <p:sp>
        <p:nvSpPr>
          <p:cNvPr id="213" name=""/>
          <p:cNvSpPr txBox="1"/>
          <p:nvPr/>
        </p:nvSpPr>
        <p:spPr>
          <a:xfrm>
            <a:off x="380520" y="1600200"/>
            <a:ext cx="8458200" cy="4525920"/>
          </a:xfrm>
          <a:prstGeom prst="rect">
            <a:avLst/>
          </a:prstGeom>
          <a:noFill/>
          <a:ln w="0">
            <a:noFill/>
          </a:ln>
        </p:spPr>
        <p:txBody>
          <a:bodyPr anchor="t">
            <a:normAutofit fontScale="94000"/>
          </a:bodyPr>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bog toga je potrebno dobro poznavanje svih aspekata deratizacionog procesa i ako se izvodi struno uz neophodne mere opreza, tada se opasnost po zdravlje svodi na minimum.</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o svakako zahteva dobro poznavanje svih karakteristika deratizacionih hemijskih sredstava – njihovu toksičnost, način delovanja, način primene, optimalnu koncentraciju u mamcu, optimalnu količinu mamca po mestu izlaganj itd.</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trebno je i poznavanje specifičnih postupaka u pružanju pomoći i prve pomoći pri slučajnom trovanju rodenticidima.</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sada nema univerzalnih preparata koji bi imali jednako  delovanje na sve vrste štetnih glodara. Neki su efikasniji u suzbijanju sivog ili crnog pacova, drugi pak u suzbijanju kućnog miša ili voluharica itd. Zbog toga se rodenticidi često grupišu na one pod nazivom raticidi i na one pod nazivom muricidi. Međutim, ova podela nema smisla jer su pojedini preparati podjednako efikasni i na pacove i na mišev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 treba zaboraviti ni činjenici da je izražena razlika u osetljivosti jedinke iste vrste na primenjeni prepar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7"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 pravilu, dobar rodenticid trebalo bi da ima sledeća svojstva:</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toksičan za glodare u što manjim koncentracijama,</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izaziva uginuće glodara što sličnije prirodnom uginuću,</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bezopasan za ljude i korisne životinje u koncentracijama koje su letalne za mičolike glodar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svojim fizičkim i hemijskim osobinama ne odbija glodar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8" name="PlaceHolder 2"/>
          <p:cNvSpPr>
            <a:spLocks noGrp="1"/>
          </p:cNvSpPr>
          <p:nvPr>
            <p:ph/>
          </p:nvPr>
        </p:nvSpPr>
        <p:spPr>
          <a:xfrm>
            <a:off x="457200" y="1980720"/>
            <a:ext cx="7772400" cy="3581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Arial"/>
              </a:rPr>
              <a:t>   </a:t>
            </a:r>
            <a:r>
              <a:rPr b="0" lang="sr-Latn-CS" sz="2400" spc="-1" strike="noStrike">
                <a:solidFill>
                  <a:srgbClr val="ffffff"/>
                </a:solidFill>
                <a:latin typeface="Tahoma"/>
              </a:rPr>
              <a:t>U lovu za hranom pacov je u stanju da savlada i najteže prepreke. U stanju je da pregrize aluminijumsku ploču debljine od 4 cm. Smatra se da su veliki broj požara prouzrokovali pacovi koji su nagrizajući instalacije (kablove) izazvale kratke spojev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Pacov ispoljava strast za putovanjem.</a:t>
            </a:r>
            <a:r>
              <a:rPr b="0" lang="sr-Latn-CS" sz="2800" spc="-1" strike="noStrike">
                <a:solidFill>
                  <a:srgbClr val="99cc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ne izaziva rezistenciju kod tretiranih populacija glodar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se primenjuje u takvom vidu i na način koji bi obezbedili uspešno suzbijanje glodara i zaštitu od sekundarnih intoksikacija, zagađivanje hrane i životne sredine u celini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cena njihove proizvodnje i prodaje pristupačna korisnicima, tj. davaocima deratizacionih uslug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 osnovu načina ulaska u organizam glodara, hemijski preparati se mogu podeliti 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digestivne otrove </a:t>
            </a:r>
            <a:r>
              <a:rPr b="0" lang="en-US" sz="2400" spc="-1" strike="noStrike">
                <a:solidFill>
                  <a:srgbClr val="ffffff"/>
                </a:solidFill>
                <a:latin typeface="Tahoma"/>
                <a:ea typeface="Tahoma"/>
              </a:rPr>
              <a:t>koje životinje unose u organizam konzumiranjem čvrstih ili tečnih zatrovanih mamaca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respiratorne otrove </a:t>
            </a:r>
            <a:r>
              <a:rPr b="0" lang="en-US" sz="2400" spc="-1" strike="noStrike">
                <a:solidFill>
                  <a:srgbClr val="ffffff"/>
                </a:solidFill>
                <a:latin typeface="Tahoma"/>
                <a:ea typeface="Tahoma"/>
              </a:rPr>
              <a:t>koje ulaze u organizam prekodisajnih organ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zavisnosti od toga u kakvom se obliku pojavljuju na tržištu, rodenticidi se primenjuju u vid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suvih rastresitih ili kompaktnih (parafinskih, briketiranih) mamaca sa hranljivom podlogom biljnog i/ili životinjskog porekla i praškastog, tečnog ili u vidu paste rodenticid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čnih mamaca spravljenih od odgovarajućeg praškastog rodenticid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čnih rastvora ili suspenzije otrova sa vodom u cilju prskanja površina na kojima se nalaze mišoliki glodar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praškastih rodenticida namenjenih tretiranju površina kojima se glodari kreć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gasa, tj. kao fumigantna sredst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oji će se od navedenih vidova koristiti zavisi od vrsta glodara, gustine njihove populacije, mesta na kome se treba izvršiti deratizacija, kao i od niza drugih okolnosti specifičnih za određeni lokalitet ili objeka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trebno je i poznavnje načina na koji pojedini rodenticidi deluju na organizam mišolikih glodara, do kakvih patoloških promena dovode, kojom brzinom se te promene dešavaju i u kom perioda vremena nastupa uginuće životi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9" name=""/>
          <p:cNvSpPr txBox="1"/>
          <p:nvPr/>
        </p:nvSpPr>
        <p:spPr>
          <a:xfrm>
            <a:off x="380520" y="1600200"/>
            <a:ext cx="8458200" cy="4525920"/>
          </a:xfrm>
          <a:prstGeom prst="rect">
            <a:avLst/>
          </a:prstGeom>
          <a:noFill/>
          <a:ln w="0">
            <a:noFill/>
          </a:ln>
        </p:spPr>
        <p:txBody>
          <a:bodyPr anchor="t">
            <a:normAutofit fontScale="95000"/>
          </a:bodyPr>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odenticidi koji se trenutno koriste grubo se mogu podeliti n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brzodelujuće</a:t>
            </a:r>
            <a:r>
              <a:rPr b="0" lang="en-US" sz="2400" spc="-1" strike="noStrike">
                <a:solidFill>
                  <a:srgbClr val="ffffff"/>
                </a:solidFill>
                <a:latin typeface="Tahoma"/>
                <a:ea typeface="Tahoma"/>
              </a:rPr>
              <a:t> (akutne, trenutne) i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sporodelujuće</a:t>
            </a:r>
            <a:r>
              <a:rPr b="0" lang="en-US" sz="2400" spc="-1" strike="noStrike">
                <a:solidFill>
                  <a:srgbClr val="ffffff"/>
                </a:solidFill>
                <a:latin typeface="Tahoma"/>
                <a:ea typeface="Tahoma"/>
              </a:rPr>
              <a:t> (hronične, kumulativne).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i i podela na one koji dovode do letalnog ishoda nakon:</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jednokratnog</a:t>
            </a:r>
            <a:r>
              <a:rPr b="0" lang="en-US" sz="2400" spc="-1" strike="noStrike">
                <a:solidFill>
                  <a:srgbClr val="ffffff"/>
                </a:solidFill>
                <a:latin typeface="Tahoma"/>
                <a:ea typeface="Tahoma"/>
              </a:rPr>
              <a:t> i</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višekratnog</a:t>
            </a:r>
            <a:r>
              <a:rPr b="0" lang="en-US" sz="2400" spc="-1" strike="noStrike">
                <a:solidFill>
                  <a:srgbClr val="ffffff"/>
                </a:solidFill>
                <a:latin typeface="Tahoma"/>
                <a:ea typeface="Tahoma"/>
              </a:rPr>
              <a:t> konzumiranja od strane glodar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1. Brzodelujući (akutni, trenutni) rodenticidi</a:t>
            </a:r>
            <a:endParaRPr b="0" lang="en-US" sz="2800" spc="-1" strike="noStrike">
              <a:solidFill>
                <a:srgbClr val="000000"/>
              </a:solidFill>
              <a:latin typeface="Arial"/>
            </a:endParaRPr>
          </a:p>
        </p:txBody>
      </p:sp>
      <p:sp>
        <p:nvSpPr>
          <p:cNvPr id="231" name=""/>
          <p:cNvSpPr txBox="1"/>
          <p:nvPr/>
        </p:nvSpPr>
        <p:spPr>
          <a:xfrm>
            <a:off x="380520" y="1600200"/>
            <a:ext cx="8458200" cy="4525920"/>
          </a:xfrm>
          <a:prstGeom prst="rect">
            <a:avLst/>
          </a:prstGeom>
          <a:noFill/>
          <a:ln w="0">
            <a:noFill/>
          </a:ln>
        </p:spPr>
        <p:txBody>
          <a:bodyPr anchor="t">
            <a:normAutofit fontScale="84000"/>
          </a:bodyPr>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i znaci trovanja i uginuća životinja nastupaju već nakon nekoliko minuta pa do 24 sata.</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gativna strana ovih sredstava je da i u malim količinama predstavlja veliku opasnost za domaće i druge životinje i čoveka, žto zahteva dodatne mere opreza.</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dostatak im je u tome što kod zatrovanih glodara znaci se ispoljavaju u vidu grčeva, cike i nenormalnog ponašanja uopšte, što uznemirava, upozorava na opasnost i rasteruje druge jedinke, stvarajući kod njih efekat straha od ponuđene zatrovane hrane.</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1. Brzodelujući (akutni, trenutni) rodenticidi</a:t>
            </a:r>
            <a:endParaRPr b="0" lang="en-US" sz="2800" spc="-1" strike="noStrike">
              <a:solidFill>
                <a:srgbClr val="000000"/>
              </a:solidFill>
              <a:latin typeface="Arial"/>
            </a:endParaRPr>
          </a:p>
        </p:txBody>
      </p:sp>
      <p:sp>
        <p:nvSpPr>
          <p:cNvPr id="233" name=""/>
          <p:cNvSpPr txBox="1"/>
          <p:nvPr/>
        </p:nvSpPr>
        <p:spPr>
          <a:xfrm>
            <a:off x="380520" y="1600200"/>
            <a:ext cx="8458200" cy="4525920"/>
          </a:xfrm>
          <a:prstGeom prst="rect">
            <a:avLst/>
          </a:prstGeom>
          <a:noFill/>
          <a:ln w="0">
            <a:noFill/>
          </a:ln>
        </p:spPr>
        <p:txBody>
          <a:bodyPr anchor="t">
            <a:normAutofit fontScale="80000"/>
          </a:bodyPr>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liki nedostatak je u tome što kod nekih od njih         (npr. natrijumfluoracetat i cinkfosfid) ne postoji antidot.</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visoko razvijenim zemljama trenutni otrovi su zastupljeni sa svega 5, a maksimalno 10% od ukupnog broja rodenticida.</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arati koji se koriste: Norbormid, ANTU, Cinkfosfid, Natrijumfluoracetat, Fluoroacetamid, Krimidin, Barijumkarbonat, Arsentrioksid, Talijumsulfat, Scilirozid, Vacor, Endrin, Lindan, Kamfehlor, Alfahloraloza, Brometalin, Kalciferol, (Gofacid i Reserpin u gotovo smim zemljama u kojima se koristio potisnuti su iz upotrebe).</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endParaRPr b="0" lang="en-US" sz="2800" spc="-1" strike="noStrike">
              <a:solidFill>
                <a:srgbClr val="000000"/>
              </a:solidFill>
              <a:latin typeface="Arial"/>
            </a:endParaRPr>
          </a:p>
        </p:txBody>
      </p:sp>
      <p:sp>
        <p:nvSpPr>
          <p:cNvPr id="235" name=""/>
          <p:cNvSpPr txBox="1"/>
          <p:nvPr/>
        </p:nvSpPr>
        <p:spPr>
          <a:xfrm>
            <a:off x="380520" y="1600200"/>
            <a:ext cx="8458200" cy="4525920"/>
          </a:xfrm>
          <a:prstGeom prst="rect">
            <a:avLst/>
          </a:prstGeom>
          <a:noFill/>
          <a:ln w="0">
            <a:noFill/>
          </a:ln>
        </p:spPr>
        <p:txBody>
          <a:bodyPr anchor="t">
            <a:normAutofit fontScale="83000"/>
          </a:bodyPr>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i rodenticiti su danas najšire korišćena hemijska sredstva u deratizaciji u svetu i kod nas. U poređenju sa brzodelujućim trenutnim otrovima, oni pokazuju dve osnovne prednosti.</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o, ne izazivaju kod glodara strah od mamaca ili otrov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o, sigurni su za korišćenje.</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jihova jedina mana što se zatrovani mamci moraju izlagati i zanavljati nekoliko dana zaredom, a za uginuće životinja potreban je period od 4 do 7 dana (za sivog pacova) ili 4 do 12 dana (za kućnog miša, crnog pacova, vrste roda </a:t>
            </a:r>
            <a:r>
              <a:rPr b="0" i="1" lang="en-US" sz="2400" spc="-1" strike="noStrike">
                <a:solidFill>
                  <a:srgbClr val="ffffff"/>
                </a:solidFill>
                <a:latin typeface="Tahoma"/>
                <a:ea typeface="Tahoma"/>
              </a:rPr>
              <a:t>Apodemus  </a:t>
            </a:r>
            <a:r>
              <a:rPr b="0" lang="en-US" sz="2400" spc="-1" strike="noStrike">
                <a:solidFill>
                  <a:srgbClr val="ffffff"/>
                </a:solidFill>
                <a:latin typeface="Tahoma"/>
                <a:ea typeface="Tahoma"/>
              </a:rPr>
              <a:t>i voluharice).</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endParaRPr b="0" lang="en-US" sz="2800" spc="-1" strike="noStrike">
              <a:solidFill>
                <a:srgbClr val="000000"/>
              </a:solidFill>
              <a:latin typeface="Arial"/>
            </a:endParaRPr>
          </a:p>
        </p:txBody>
      </p:sp>
      <p:sp>
        <p:nvSpPr>
          <p:cNvPr id="237" name=""/>
          <p:cNvSpPr txBox="1"/>
          <p:nvPr/>
        </p:nvSpPr>
        <p:spPr>
          <a:xfrm>
            <a:off x="380520" y="1600200"/>
            <a:ext cx="8458200" cy="4525920"/>
          </a:xfrm>
          <a:prstGeom prst="rect">
            <a:avLst/>
          </a:prstGeom>
          <a:noFill/>
          <a:ln w="0">
            <a:noFill/>
          </a:ln>
        </p:spPr>
        <p:txBody>
          <a:bodyPr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vi antikoagulantni rodenticidi koji se danas koriste su derivati hidroksikumarina i indandiona. Njihov fiziološki efekat dejstva je istovetan. Oni sprečavaju koagulaciju krvi, izazivaju prskanje krvnih sudova i stvaranje hemoragije na pojedinim organima. Životinja ugine usled iskrvarenja.</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arati prve generacije : Varfarin, Kumafuril, Kumatetralil, Pindon, Difacinon.</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06:51:20Z</dcterms:created>
  <dc:creator>Zoran Velickovic</dc:creator>
  <dc:description/>
  <dc:language>en-US</dc:language>
  <cp:lastModifiedBy>Zoran Velickovic</cp:lastModifiedBy>
  <dcterms:modified xsi:type="dcterms:W3CDTF">2010-10-20T10:27:21Z</dcterms:modified>
  <cp:revision>180</cp:revision>
  <dc:subject/>
  <dc:title>DERATIZACIJA</dc:title>
</cp:coreProperties>
</file>