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C6A-36BE-40E2-AF4D-8BE880B5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EAA-2381-4471-AEA2-91EA3800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EC6-6047-4980-8DF9-7084E29A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FE1-B805-4E48-9E3F-C330D3C8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BB64-EAF5-4F78-8012-338E189B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4697-D979-4A14-BA0B-4E156ECB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029D-1366-4ACF-89C6-5504D35D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14AA-9F32-463A-8628-3A26CC12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A37B-D6C7-40F5-961F-74E3A25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D529-49A9-452F-A839-8C715A74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9007-A72A-49BA-848E-3F287B3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68A-855D-4612-A786-89B7D1C8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EA32-0A23-41C8-86F5-2D54287B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3907-8CBC-4AD5-AC4D-DAB1819A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A627-E1E9-40D7-8623-438C8C79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183B-4E30-4E78-A230-8BC0BB64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377D-47A4-473E-BB06-5C2734C6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427-36C2-4832-866B-2EB91ADC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34D-96F5-4565-8072-52BFABCB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80B-C79D-44EC-BC93-EE4678F3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04B-9865-41CF-AED0-AAF0B104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D07-6F08-4B4F-B877-2B155ED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895-0929-4539-B37A-356E57F9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36C4-7054-4CFB-A957-BFC3B684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46F5-E1D8-4F9A-9B34-C1DF173251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5102-1516-4699-8842-B80D5448BC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umigacij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sistent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sci. Med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ša Ranč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Adsopc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Gasovi mogu biti vezani od površine čvrstih tela, ova pojava je poznata kao adsop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dsorpci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promena koncentracije na graničnim površina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zraženija je ako su dodirne površine rapavije, poroznije i nerav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dsorpcija i apsorpcija su reverzibilne poja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ile adsorpcije su slabije od sila apsorpci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padanje koncentracije gasova usled ovih svojstava nije naglo već postepe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likom izračunavanja doze fumiganta, a prema robi i prostoru, treba uvažavati ove dve osobine fumiganata, zato što one mogu da izazovu znatan gubitak fumigan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aku adsorptivnu moć imaju brašno, tekstil i proizvodi u prah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idovi objekta iako su suvi mogu da vežu jedan procenat vl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 namirnice se upotrebljavaju fumiganti koji se ne rastvaraju u ulj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 fumigaciju su povoljnije više temperature prostorije, zato što je manji gubitak gasova procesima apsorpcije i adsorpcije, gas se ravnomernije raspoređuje po svim delovima koji se tretiraju, insekti su osetljivij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sorpci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je proces oslobađanja fumiganata iz robe po završenoj fumigacij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uprotan proces od sorpci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slobađanje gasa iz tretirane robe zavisi od vrste roba i upotrebljenog fumig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Koncentracija u ekspozic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miganti deluju preko respiratornih orga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za je masa primenjenog fumiganta, a koncentracija je stvarna količina primenjenog fumig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za se uvek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apred zna, a koncentracija tek po izvršenoj analizi vazduh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Vrste fumigan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Cijanovodonik (HC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Bistra bezbojna tečnost, tačka ključanja na 26 stepeni, dobro se rastvara u vodi pri svim temeraturama. Rastvorljiv je u etanol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merenom oksidacijom prelazi u netoksičnu cijansku kiselin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 mirisu cijanvodonik podseća na bad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emperatura paljenja je 18 stepe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likom skladištenja u vidu tečnosti, cijan-vodonik može eksplodirati ako je bez stabilizato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enu cijanvodonika je preporučio William Dingle 1917. godi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prvoj fazi koristio se suzbijanje štitastih vaši. Kasnije se koristio za suzbijanje štetnih insekata i glodar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anas se retko koristi, ali je i dalje jedan od najtoksičnijih insektici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mena cijanvodonične kiseline i njenih derivata u dezinsekciji i deratizaciji zove se cijaniza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umigacija cijanvodonikom može se realizovati na suvom sadnom materijalu, suvoj robi, zrnu i semenu, suvom voću i mlinskim proizvodima. Fumigacijom mogu biti obuhvaćeni brodovi, skladišta i silos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Definicija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umigacija je proces suzbijanja skladišnih štetočina insekticidima koji imaju svojstvo prelaska u gasovito sta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nsekticidi-fumiganti su izuzetno toksični i pripadaju prvoj grupi otro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umigacija se izvodi kada se drugim merama nije mogla da spreči pojava štetoč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ože da se koristi samostalno ili u vidu soli kalijuma, natrijuma i kalciju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ao tečnost, cijanvodonik može da se nabavi u cilindrima čija je čistoća 96 do 98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Metil-bromi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nsekticidna svojstva poznata od 1931. godine kada je prvi put u mešavini sa ugljen-dioksidom upotrebljen za zaštitu ži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Kao fumigant, uspešno se koristi za suzbijanje štetočina u skladištima, silosima, brodovima, vagonima, kamioni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etil-bromid je gas bez boje, mirisa, pri niskim koncentracija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ri visokim koncentracijama je jako zagušljiv i sladunjav. Teži je od vazduha, slabo se rastvara u vodi. Potpuno se meša sa alkoholom i etr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Jak otrov za čoveka. Nadražuje sluznicu oka i respiratorne puteve. Resorbuje se kroz kožu. Spada u kancerog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etil-bromid na insekte deluje inhalaciono i veoma spo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Osnovni problem u radu sa metil-bromidom je njegov nekontrolisan odlazak u atmosferu i oštećenje ozonskog omotač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Fosfin ili fosforvodoni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ajviše se koris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Gas bez boje, zapaljiv, zapaljiv pri višim temperaturama. Slabo rastvorljiv u vod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Zavisno od čitoće supstance, gas ima miris belog lu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ema štetan uticaj na atmosfer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 prirodi se fosforvodonik javlja kao produkt aktivnosti mikroorganizama, au barama kao sastavni deo močvarskog gasa meta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potrebljava se u industriji kao aditiv za ulja i kao inhibitor plame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luminijum i magnezijum fosf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osforvodonik deluje na insekte samo u prisustvu kiseoni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oksični efekat fosforvodonika na pojedine razvojne stadijume insekata nije isti. Adulti i larve su osetljiviji od lutaka i ja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zuzetno efikasan u redukciji akarina (pregalja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Etilenoksid, etilen-dibromid, dihlorvos, hlorpikrin, ugljen-disulfid, ugljen-tetrahlorid, dijatomejska zeml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Karakteristike fumigaci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Efikasna mera za suzbijanje skladištnih štetoč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Nije dovoljno poznavati samo objekte, već i vrstu robe i njene osob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Uslovi za održavanje higijene u objektima, kontrola pri prijemu žita, proizvoda i druge robe, preventivna dezinsek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e ove mere imaju za cilj da smanjenje ekonomske gubitk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Fumigacija može da se izvodi p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ndikacij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 pla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Po pozi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finicija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 fumigana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mijske materije koje se pri određenoj temperaturi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itisku nalaze u gasovitom stanu u koncentracijama koje izazivaju smrtnost štetnih organizama koji su im izlože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 ove definiciju su isklju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č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 aerosoli-čestice dispergovane u vazduhu koji se popularno opisuju kao dim ili mag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arakteristik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načajna prodorna moć (mnogo više od aerosol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iru u tretirani materijal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zlaze iz njeg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bog niske tačke ključanja na običnoj temperaturi su u gasovitom stanj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ju sposobnost difuzije u zatvorenom prosto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malna temperatura za izvođenje fumigacije 10 do 35 stepe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im temperaturi bitna je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žina fumiganta u odnosu na vazdu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glavnom su teži od vazduha, osi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jan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doni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i su toksični za ljude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ipadaju prvoj grupi otro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oblje mora da bude posebno edukovano I da ima posebnu zaštit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Sorpcija (apsorpcija i adsorpcij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Gasovi mogu da budu apsorbovani od vode, tečnosti i ul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vojstvo gasova da budu apsorbovani od strane tečnosti karakteristično je za većinu fumiganat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tepen apsorpcije gasova od strane tečnosti zavisi od tempera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a porastom temperature apsorpcija opad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psorpcij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promena koncentracije gasova koja se obavlja u celoj mas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31:39Z</dcterms:created>
  <dc:creator>AZURE</dc:creator>
  <dc:description/>
  <dc:language>en-US</dc:language>
  <cp:lastModifiedBy>Intel</cp:lastModifiedBy>
  <dcterms:modified xsi:type="dcterms:W3CDTF">2011-11-16T06:59:32Z</dcterms:modified>
  <cp:revision>20</cp:revision>
  <dc:subject/>
  <dc:title>Fumigacija</dc:title>
</cp:coreProperties>
</file>