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43A3A-223B-41B3-B08F-DA13420F4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DA35C-376B-45B2-AB82-2EFF080AC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B2E27-5EBB-45EB-9869-3337A9C91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46AA2-03B5-4367-90FA-A31087B22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B2242-00A7-44B8-AFD5-16BD57399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E54F8-BEE3-4DB4-A940-8439062FC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F4EDE-5816-4023-8D74-3301DBF3D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29609-0143-4AB6-AD11-4026A13C0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ABC96-6EF2-4B7A-816A-604A2E67E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09FE3-D640-42F5-9357-7FC838C5E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E6E92-84AF-48E6-B671-2300A4A6E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7E2FE-C118-488A-9519-0CDEFB572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B6450-C374-423B-9F7A-C998127EE8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t>
            </a:r>
            <a:r>
              <a:rPr b="0" lang="sr-Latn-CS" sz="4400" spc="-1" strike="noStrike">
                <a:solidFill>
                  <a:srgbClr val="000000"/>
                </a:solidFill>
                <a:latin typeface="Arial"/>
              </a:rPr>
              <a:t>ZINFEKCIJ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Prof dr Branislav Tiodorovi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142920" y="365040"/>
            <a:ext cx="8748720" cy="649296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Zračenj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Ultravioletni zraci</a:t>
            </a:r>
            <a:r>
              <a:rPr b="0" lang="en-GB" sz="2800" spc="-1" strike="noStrike">
                <a:solidFill>
                  <a:srgbClr val="000000"/>
                </a:solidFill>
                <a:latin typeface="Arial"/>
              </a:rPr>
              <a:t> se primenjuju za uništvanje mikroorganizama u vazduhu, na ravnim površinama i nekim tečnostima u tankom sloju. Na delovanje ultravioletnih zraka najosetljiviji su gram-negativni mikroorganizmi, a najotporniji su virusi. Sem u bolnicama ultravioletni zraci imaju široku primenu u dečjim ustanovama, farmaceutskoj industriji, industriji hrane (mlekare, pivare, u fabrikama za preradu ribe i mesa i s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led nepravilnog korišćenja UV lampi može doći do  pojave eritema po koži, kao i promene raspoloženja zaposlenih i brzog zamora. Zato se u tim prostorijam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oristi indirektan način zračenja, da ne bi došlo do neželjenog dejst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1513080"/>
            <a:ext cx="9144000" cy="302004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Ultrazvuk</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ticaj ultrazvuka na mikroorganizme se ispoljava u tečnim sredinama, gde dolazi do taloženja i koagulacije belančevina i dezintegracije bakterijskih ćelij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tiče i na biohemijsku aktivnost bakterij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ltrazvuk može da se koristi za dezinfekciju vode i mlek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214200" y="474840"/>
            <a:ext cx="8715600" cy="5946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onizujuće zračenje</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Naročito je rasprostranjena upotreba gama-zračenja za sterilizaciju plastičnih brizgalica (špriceva), Petrijevih šolja i drugih materijala od plastike, kao i čitavog niza instrumenata i predmeta za jednokratnu upotrebu (kateteri, hirurški konci), ali isto tako i vakcina, antibiotika i td. Jonizujuće zračenje se koristi i za konzervisanje životnih namirnica i  predmeta opšte upotreb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od nas se tretiranje gama-zracima vrši u Institutu za nuklearne nauke u Vinči kod Beograda. Kao izvor gama zračenja koristi se kobalt s atomskom težinom 60 ili  cezijum  atomske težine 13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dnost </a:t>
            </a:r>
            <a:r>
              <a:rPr b="0" lang="en-GB" sz="2400" spc="-1" strike="noStrike">
                <a:solidFill>
                  <a:srgbClr val="000000"/>
                </a:solidFill>
                <a:latin typeface="Arial"/>
              </a:rPr>
              <a:t>sterilizacije gama-zracima je u tome što se proces završava veoma brzo ne menja temperatura tretiranih predmeta, pa se ova “hladna” sterilizacija preporučuje za tretman termolab</a:t>
            </a:r>
            <a:r>
              <a:rPr b="0" lang="sr-Latn-CS" sz="2400" spc="-1" strike="noStrike">
                <a:solidFill>
                  <a:srgbClr val="000000"/>
                </a:solidFill>
                <a:latin typeface="Arial"/>
              </a:rPr>
              <a:t>.</a:t>
            </a:r>
            <a:r>
              <a:rPr b="0" lang="en-GB" sz="2400" spc="-1" strike="noStrike">
                <a:solidFill>
                  <a:srgbClr val="000000"/>
                </a:solidFill>
                <a:latin typeface="Arial"/>
              </a:rPr>
              <a:t> materija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0" y="598680"/>
            <a:ext cx="9144000" cy="563976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r>
              <a:rPr b="1" lang="en-GB" sz="2800" spc="-1" strike="noStrike">
                <a:solidFill>
                  <a:srgbClr val="000000"/>
                </a:solidFill>
                <a:latin typeface="Arial"/>
              </a:rPr>
              <a:t>Temperatura</a:t>
            </a: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iske temperature</a:t>
            </a:r>
            <a:r>
              <a:rPr b="0" lang="en-GB" sz="2800" spc="-1" strike="noStrike">
                <a:solidFill>
                  <a:srgbClr val="000000"/>
                </a:solidFill>
                <a:latin typeface="Arial"/>
              </a:rPr>
              <a:t> nemaju nikakvu praktičnu primenu za dezinfekciju jer ne uništavaju mikroorganizme, već samo sprečavaju njihovo razmnožavan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kteriostatsko delovanje niske temperature se ogleda u usporenju svih hemijskih procesa, i kao posledica toga nema razmnožavanja mikroorganizam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ska temperatura se može koristiti za konzervisanje životnih namirnic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285840" y="1214280"/>
            <a:ext cx="8501040" cy="43599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Visoka temperatura</a:t>
            </a:r>
            <a:r>
              <a:rPr b="0" lang="en-GB" sz="2800" spc="-1" strike="noStrike">
                <a:solidFill>
                  <a:srgbClr val="000000"/>
                </a:solidFill>
                <a:latin typeface="Arial"/>
              </a:rPr>
              <a:t> - može se koristiti kao suva i kao vlažna toplota koja pokazuje bolji efekat (pokazuje veću baktericidnu snagu od su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plota je najpouzdanije fizičko sredstvo za uništavanje kako vegetativnih tako i sporogenih oblika mikroorganizam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apravo kod korišćenja ove metode prestaje jasna granica izmedju dezinfekcije i sterilizacij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539640" y="398880"/>
            <a:ext cx="7993080" cy="594612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va toplota</a:t>
            </a:r>
            <a:r>
              <a:rPr b="0" lang="en-GB" sz="2400" spc="-1" strike="noStrike">
                <a:solidFill>
                  <a:srgbClr val="000000"/>
                </a:solidFill>
                <a:latin typeface="Arial"/>
              </a:rPr>
              <a:t> - Suva toplota ima efekat samo ako se temperatura podigne vrlo visoko (do 180oC) , a proces sterilizacije traje dovoljno dugo (najčešće 30 minuta do 1 sata). Suva toplota se može koristiti u komorama sa suvim vazduhom. Na tom principu radi suvi sterilizator. U suvom sterilizatoru se sterilišu samo predmeti koji podnose visoku temperaturu ili su manje vrednosti (metalni medicinski instrumenti i stakleni predmeti). U suvi sterilizator se ne stavljaju predmeti od gume i plasti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lažna toplota</a:t>
            </a:r>
            <a:r>
              <a:rPr b="0" lang="en-GB" sz="2400" spc="-1" strike="noStrike">
                <a:solidFill>
                  <a:srgbClr val="000000"/>
                </a:solidFill>
                <a:latin typeface="Arial"/>
              </a:rPr>
              <a:t> - Ima bolju, jaču prodornu moć i manje je štetna za predmete koji se dezinfikuju s obzirom da se koristi niža temperatura. Može se koristiti na tri načina: kao kuvanje u ključaloj vodi, kao vodena para koja slobodno struji bez pritiska i kao vodena para pod pritisk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0" y="949320"/>
            <a:ext cx="9144000" cy="448308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Opaljivanje i žarenje</a:t>
            </a:r>
            <a:r>
              <a:rPr b="0" lang="en-GB" sz="2400" spc="-1" strike="noStrike">
                <a:solidFill>
                  <a:srgbClr val="000000"/>
                </a:solidFill>
                <a:latin typeface="Arial"/>
              </a:rPr>
              <a:t> ( sterilizacija na plamen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aljivanjem grlića boca i epruveta otvorenim plamenom oni postaju sterilni. Ovakav način sterilizacije upotrebljava se u svakodnevnom radu u mikrobiološkim laboratorijama i pri uzorkovanju vode iz česam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Žarenjem se steriliše omča ili eza bez koje se rad u bakteriloškoj laboratoriji ne može da zamisli. žarenje je dobar i siguran postupak jer se predmet zagreva do usijanja, čime se uništavaju svi živi mikroorganizmi. Medjutim, često žarenje oštećuje instrum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42920" y="357120"/>
            <a:ext cx="9001080" cy="56397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skuvavanje</a:t>
            </a:r>
            <a:r>
              <a:rPr b="0" lang="en-GB" sz="2800" spc="-1" strike="noStrike">
                <a:solidFill>
                  <a:srgbClr val="000000"/>
                </a:solidFill>
                <a:latin typeface="Arial"/>
              </a:rPr>
              <a:t> je jedan od najlakših i najefikasnijih načina dezinfekcije. Iskuvavanje od 20-30 minuta dovoljno je za uništenje vegetativnih, a 1-2 sata za uništavanje nekih sporogenih bakterija. Iskuvavanjem se mogu sterilisati metalni i stakleni predmeti (posudje, instrumenti, igračke), tekstil (lično rublje i posteljin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reme dezinfekcije se računa od momenta ključan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kuvavanje se pokazalo kao prost, praktičan i ekonomičan način dezinfekcije. Pranjem vrelom vodom sjedinjuju se iskuvavanje, sapunjanje i glačanje, pa zato predstavlja  važan faktor u borbi protiv zaraznih boles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179280" y="243720"/>
            <a:ext cx="8964720" cy="631188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odena para</a:t>
            </a:r>
            <a:r>
              <a:rPr b="0" lang="en-GB" sz="2400" spc="-1" strike="noStrike">
                <a:solidFill>
                  <a:srgbClr val="000000"/>
                </a:solidFill>
                <a:latin typeface="Arial"/>
              </a:rPr>
              <a:t> se u dezinfekcionoj praksi koristi najčešće kao para pod pritiskom. Para ne samo da dezinfikuje, ona i steriliše. Ima praktičnu primenu kod svih zaraznih bolest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graničavajući faktor je taj što se parom ne dezinfikuju predmeti za čije je oblikovanje upotrebljen lepak ili lak, kao ni predmeti od krzna, kože i s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mena vodene pare sreće se kod Kohovog lonca, njegove modifikacije srpskog ili partizanskog bureta, autoklava, kao i kod parnih dezinfekcionih komora (aparata). Parne dezinfekcione komore mogu biti sa strujećom vodenom parom (100oC), sa parom pod pritiskom (iznad 100oC) i sa vakumom (ispod 100o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bog uočenih nedostataka koji poseduje klasični autoklav pojavili su se novi u koje se umesto vode koristi formalin odredjene koncentracije. Formalinske pare imaju veću prodornu moć i veći baktericidni učinak jer deluju i hemijski</a:t>
            </a:r>
            <a:r>
              <a:rPr b="0" lang="en-GB"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179280" y="-33120"/>
            <a:ext cx="8964720" cy="691956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emijska metoda dezinfekcij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Korišćenje hemijskih sredstava za uništavanje mikroorganizama naziva se hemijska dezinfekcija. Hemijska dezinfekciona sredstva imaju široku primenu u praksi i pored toga što nema univerzalnog sredstva koje bi uništavalo sve vrste mikroorganizam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ako u vegetativnom, tako i u sporogenom obliku.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ktericidnost hemijskog sredstva zavisi od koncentracije rastvora, dužine kontakta s predmetom koji se dezinfikuje, temperature pri kojoj se izvodi dezinfekcija i otpornosti mikroorganizma prema korišćenom sredstv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Dobro dezinfekciono sredstvo treba da deluje baktericidno i na nižoj temperaturi i u manjoj koncentraciji i u kraćem vremenu.</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 name="Rectangle 4"/>
          <p:cNvSpPr/>
          <p:nvPr/>
        </p:nvSpPr>
        <p:spPr>
          <a:xfrm>
            <a:off x="214200" y="930240"/>
            <a:ext cx="8713800" cy="478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V</a:t>
            </a:r>
            <a:r>
              <a:rPr b="0" lang="en-GB" sz="2800" spc="-1" strike="noStrike">
                <a:solidFill>
                  <a:srgbClr val="000000"/>
                </a:solidFill>
                <a:latin typeface="Arial"/>
              </a:rPr>
              <a:t>eoma važn</a:t>
            </a:r>
            <a:r>
              <a:rPr b="0" lang="sr-Latn-CS" sz="2800" spc="-1" strike="noStrike">
                <a:solidFill>
                  <a:srgbClr val="000000"/>
                </a:solidFill>
                <a:latin typeface="Arial"/>
              </a:rPr>
              <a:t>a</a:t>
            </a:r>
            <a:r>
              <a:rPr b="0" lang="en-GB" sz="2800" spc="-1" strike="noStrike">
                <a:solidFill>
                  <a:srgbClr val="000000"/>
                </a:solidFill>
                <a:latin typeface="Arial"/>
              </a:rPr>
              <a:t> mer</a:t>
            </a:r>
            <a:r>
              <a:rPr b="0" lang="sr-Latn-CS" sz="2800" spc="-1" strike="noStrike">
                <a:solidFill>
                  <a:srgbClr val="000000"/>
                </a:solidFill>
                <a:latin typeface="Arial"/>
              </a:rPr>
              <a:t>a</a:t>
            </a:r>
            <a:r>
              <a:rPr b="0" lang="en-GB" sz="2800" spc="-1" strike="noStrike">
                <a:solidFill>
                  <a:srgbClr val="000000"/>
                </a:solidFill>
                <a:latin typeface="Arial"/>
              </a:rPr>
              <a:t> usmeren</a:t>
            </a:r>
            <a:r>
              <a:rPr b="0" lang="sr-Latn-CS" sz="2800" spc="-1" strike="noStrike">
                <a:solidFill>
                  <a:srgbClr val="000000"/>
                </a:solidFill>
                <a:latin typeface="Arial"/>
              </a:rPr>
              <a:t>a</a:t>
            </a:r>
            <a:r>
              <a:rPr b="0" lang="en-GB" sz="2800" spc="-1" strike="noStrike">
                <a:solidFill>
                  <a:srgbClr val="000000"/>
                </a:solidFill>
                <a:latin typeface="Arial"/>
              </a:rPr>
              <a:t> na uništavanje uzročnika zaraznih bolesti u spoljnoj sredin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d </a:t>
            </a:r>
            <a:r>
              <a:rPr b="1" i="1" lang="en-GB" sz="2800" spc="-1" strike="noStrike">
                <a:solidFill>
                  <a:srgbClr val="000000"/>
                </a:solidFill>
                <a:latin typeface="Arial"/>
              </a:rPr>
              <a:t>dezinfekcijom</a:t>
            </a:r>
            <a:r>
              <a:rPr b="0" lang="en-GB" sz="2800" spc="-1" strike="noStrike">
                <a:solidFill>
                  <a:srgbClr val="000000"/>
                </a:solidFill>
                <a:latin typeface="Arial"/>
              </a:rPr>
              <a:t> se podrazumeva uništavanje samo patogenih mikroorganizama u spoljnoj sredini, dok se uništavanje svih vrsta mikroorganizama, uključujući i njihove spore, naziva </a:t>
            </a:r>
            <a:r>
              <a:rPr b="1" i="1" lang="en-GB" sz="2800" spc="-1" strike="noStrike">
                <a:solidFill>
                  <a:srgbClr val="000000"/>
                </a:solidFill>
                <a:latin typeface="Arial"/>
              </a:rPr>
              <a:t>sterilizaci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zinfekcija može biti </a:t>
            </a:r>
            <a:r>
              <a:rPr b="1" i="1" lang="en-GB" sz="2800" spc="-1" strike="noStrike">
                <a:solidFill>
                  <a:srgbClr val="000000"/>
                </a:solidFill>
                <a:latin typeface="Arial"/>
              </a:rPr>
              <a:t>profilaktička</a:t>
            </a:r>
            <a:r>
              <a:rPr b="1" lang="en-GB" sz="2800" spc="-1" strike="noStrike">
                <a:solidFill>
                  <a:srgbClr val="000000"/>
                </a:solidFill>
                <a:latin typeface="Arial"/>
              </a:rPr>
              <a:t> i </a:t>
            </a:r>
            <a:r>
              <a:rPr b="1" i="1" lang="en-GB" sz="2800" spc="-1" strike="noStrike">
                <a:solidFill>
                  <a:srgbClr val="000000"/>
                </a:solidFill>
                <a:latin typeface="Arial"/>
              </a:rPr>
              <a:t>žariš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0" y="551160"/>
            <a:ext cx="9144000" cy="563976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 izboru hemijskog sredstva za dezinfekciju treba voditi računa o sledeće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da deluje u minimalnim koncentracijam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da je što manje toksično za ljude i domaće životinj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da ne kvari predmete sa kojima dolazi u dodi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da ima prijatan mir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da ima dobru prodornu mo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da se dezinfekciona moć ne gubi dužim stajanjem i pod uticajem svetlost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da je jeftino i da ga ima na tržišt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da se lako čuva, pakuje i transportuj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da se dobro rastvara u vo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214200" y="649800"/>
            <a:ext cx="8715600" cy="606636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ktericidno delovanje hemijskog dezinfekcionog sredstva se pojačava ukoliko se upotrebljavaju zagrejani rastvori.</a:t>
            </a: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a aplikaciju hemijskih sredstava za dezinfekciju koriste se sledeći načini: prebrisavanje, potapanje, prelivanje, prskanje, zamagljivanje i gasna dezinfekci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mijska dezinfekciona sredstva mogu biti: kiseline, baze, soli teških metala, halogeni elementi i njihova jedinjenja, aromatična jedinjenja, aldehidi i alkoholi, površinski aktivne materije, neposredno oksidišuća sredstva, kraternerne amonijum baze i d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250920" y="454680"/>
            <a:ext cx="8893080" cy="558036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iseline</a:t>
            </a:r>
            <a:r>
              <a:rPr b="0" lang="en-GB" sz="2400" spc="-1" strike="noStrike">
                <a:solidFill>
                  <a:srgbClr val="000000"/>
                </a:solidFill>
                <a:latin typeface="Arial"/>
              </a:rPr>
              <a:t> su veoma efikasna dezinfekciona sredstv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a veoma kratko vreme rastvaraju belančevine i razlažu ugljene hidrate u telu mikroorganizma. Dejstvo kiselina bazira se na elektrolitičkoj disocijaciji i ukoliko jedan rastvor sadrži veći broj      H jona utoliko će njegova baktericidna moć biti već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Š</a:t>
            </a:r>
            <a:r>
              <a:rPr b="0" lang="en-GB" sz="2400" spc="-1" strike="noStrike">
                <a:solidFill>
                  <a:srgbClr val="000000"/>
                </a:solidFill>
                <a:latin typeface="Arial"/>
              </a:rPr>
              <a:t>ira primena neorganskih kiselina se izbegava pošto oštećuju predmete od metala i tkan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ganske kiseline ne deluju baktericidno u tolikoj meri da bi se mogle koristiti za dezinfekciju. Pojedine organske kiseline se koriste kao antiseptična sredstva i za konzerviranje hrane u domaćinstv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785880" y="428760"/>
            <a:ext cx="7715160" cy="60663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 poslednje vreme sve širu primenu u praksi nalazi persirćetna kiselina koja pokazuje široki spektar delovanja, kako na vegetativne tako i sporogene oblike bakterija</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ročit značaj ima primena ovog sredstva u medicini za dezinfekciju razne opreme od gume, plastike, stakla</a:t>
            </a:r>
            <a:r>
              <a:rPr b="0" lang="sr-Latn-CS" sz="2800" spc="-1" strike="noStrike">
                <a:solidFill>
                  <a:srgbClr val="000000"/>
                </a:solidFill>
                <a:latin typeface="Arial"/>
              </a:rPr>
              <a:t> kao i</a:t>
            </a:r>
            <a:r>
              <a:rPr b="0" lang="en-GB" sz="2800" spc="-1" strike="noStrike">
                <a:solidFill>
                  <a:srgbClr val="000000"/>
                </a:solidFill>
                <a:latin typeface="Arial"/>
              </a:rPr>
              <a:t> </a:t>
            </a:r>
            <a:r>
              <a:rPr b="0" lang="sr-Latn-CS" sz="2800" spc="-1" strike="noStrike">
                <a:solidFill>
                  <a:srgbClr val="000000"/>
                </a:solidFill>
                <a:latin typeface="Arial"/>
              </a:rPr>
              <a:t>s</a:t>
            </a:r>
            <a:r>
              <a:rPr b="0" lang="en-GB" sz="2800" spc="-1" strike="noStrike">
                <a:solidFill>
                  <a:srgbClr val="000000"/>
                </a:solidFill>
                <a:latin typeface="Arial"/>
              </a:rPr>
              <a:t>vih onih predmeta koji se na drugi način ne mogu dezinfikovati (maske za kiseonik, kateteri, gumena creva i d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ebno područje primene u medicini je dezinfekcija aparata za hemodijaliz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0" y="1377720"/>
            <a:ext cx="9144000" cy="448308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ze</a:t>
            </a:r>
            <a:r>
              <a:rPr b="0" lang="en-GB" sz="2400" spc="-1" strike="noStrike">
                <a:solidFill>
                  <a:srgbClr val="000000"/>
                </a:solidFill>
                <a:latin typeface="Arial"/>
              </a:rPr>
              <a:t> su dobra dezinfekciona sredstva koja lako i uspešno uništavaju mikroorganizme. Dejstvo im je zasnovano na baktericidnosti OH grup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 zavisnosti od koncentracije OH jona baze mogu biti slabo baktericidne (sapuni) i jako baktericidne (kreč i d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zuzetno široku primenu u praksi ima kreč. Kreč može da se koristi kao negašeni, gašeni i kao krečno mleko. Efikasno je sredstvo za dezinfekciju kod crevnih infekcija. U praksi se koristi za dezinfekciju nužničkih jama, zagadjenog tla, dvorišta, štala, izlučevina (fekalija, mokraće), djubrišta it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357120" y="785880"/>
            <a:ext cx="8429760" cy="56397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li teških metala</a:t>
            </a:r>
            <a:r>
              <a:rPr b="0" lang="en-GB" sz="2800" spc="-1" strike="noStrike">
                <a:solidFill>
                  <a:srgbClr val="000000"/>
                </a:solidFill>
                <a:latin typeface="Arial"/>
              </a:rPr>
              <a:t> - Poznato je da neki metali čak i ako su nerastvoreni u vodi imaju snažno baktericidno delovanje. Ovu osobinu pokazuju najviše srebro, a u manjoj meri bakar, kobalt, nikal it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U praksi uglavnom se primenjuju bakar sulfat (CuSO4) i srebronitrat (AgNO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rebronitrat je imao primenu u prevenciji infekcija očiju novorodjenčet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kar sulfat se upotrebljava pri dezinfekciji voda bazena za kupanj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0" y="438840"/>
            <a:ext cx="8820000" cy="558036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alogeni elementi</a:t>
            </a:r>
            <a:r>
              <a:rPr b="0" lang="en-GB" sz="2400" spc="-1" strike="noStrike">
                <a:solidFill>
                  <a:srgbClr val="000000"/>
                </a:solidFill>
                <a:latin typeface="Arial"/>
              </a:rPr>
              <a:t>.  U praksi se najčešće upotrebljavaju razna jedinjenja hlora i joda. Ipak su najpristupačniji i najefikasniji preparati koji sadrže hl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lor</a:t>
            </a:r>
            <a:r>
              <a:rPr b="0" lang="en-GB" sz="2400" spc="-1" strike="noStrike">
                <a:solidFill>
                  <a:srgbClr val="000000"/>
                </a:solidFill>
                <a:latin typeface="Arial"/>
              </a:rPr>
              <a:t> - i njegova jedinjenja odavno su poznata kao dobra dezinfekciona sredstva. Može se upotrebiti u vidu gasa ili jedinjenja (hlorni kreč, hloramin, kaporit itd.). Prednost hlora i njegovih preparata je u tome što su jeftini, lako se primenjuju i mogu da se lako nabave. U prisustvu raznih organskih i neorganskih materija otežano je dejstvo hlora, jer se velike količine hlora troše za vezivanje isti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lor se najčešće u gasovitom stanju, uz pomoć specijalnih aparata, koristi za dezinfekciju vode za piće, a količina zavisi od stepena zagadjenja vode i takozvanog hlornog broj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250920" y="619200"/>
            <a:ext cx="8569080" cy="521460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lorni kreč </a:t>
            </a:r>
            <a:r>
              <a:rPr b="0" lang="en-GB" sz="2400" spc="-1" strike="noStrike">
                <a:solidFill>
                  <a:srgbClr val="000000"/>
                </a:solidFill>
                <a:latin typeface="Arial"/>
              </a:rPr>
              <a:t>- je beo ili sivkasto beo, amorfan prah sa prodornim mirisom hlora. Veoma je higroskopan. U promet dolazi preparat koji sadrži 20-30% aktivnog hlora, ali stajanjem se postepeno gubi aktivni hlor i koncentracija pada (1% - 3% mesečno). Ako koncentracija opadne ispod 15%, takav hlorni kreč nije za upotrebu, odnosno ima slabi dezinfekcioni efek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lorni kreč spada u najefikasnija dezinfekciona sredstva. Upotrebljava se za dezinfekciju podova, zidova, drvenog (nelakiranog) nameštaja, otpadnog materijala, nužnika, ekskreta, fekalija itd. Pored ovoga, naročito je raširena upotreba hlornog kreča za dezinfekciju vode za piće u bunarima ili cistern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880920"/>
            <a:ext cx="9144000" cy="521460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loramini</a:t>
            </a:r>
            <a:r>
              <a:rPr b="0" lang="en-GB" sz="2400" spc="-1" strike="noStrike">
                <a:solidFill>
                  <a:srgbClr val="000000"/>
                </a:solidFill>
                <a:latin typeface="Arial"/>
              </a:rPr>
              <a:t> su takodje jedinjenja hlora, ali je za razliku od hlornog kreča postojaniji. Sadrži 25%-35% aktivnog hlor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oriste se za dezinfekciju manjih količina vo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bog postojanosti i protrahiranog dejstva podesan je za dezinfekciju bazen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djutim, njegova primena je daleko šira (dezinfekcija sudova, drvenih površina i d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aporit</a:t>
            </a:r>
            <a:r>
              <a:rPr b="0" lang="en-GB" sz="2400" spc="-1" strike="noStrike">
                <a:solidFill>
                  <a:srgbClr val="000000"/>
                </a:solidFill>
                <a:latin typeface="Arial"/>
              </a:rPr>
              <a:t> - je manje higroskopan od hlornog kreča i sadrži 2 - 3 puta  više aktivnog hlora (56%-7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potrebljava se u iste svrhe kao i hlorni kreč.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sebnu primenu ima za dezinfekciju vode u bazenima za kupanj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428760" y="1071720"/>
            <a:ext cx="8358120" cy="52131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Jod </a:t>
            </a:r>
            <a:r>
              <a:rPr b="0" lang="en-GB" sz="2800" spc="-1" strike="noStrike">
                <a:solidFill>
                  <a:srgbClr val="000000"/>
                </a:solidFill>
                <a:latin typeface="Arial"/>
              </a:rPr>
              <a:t>- ima jako baktericidno dejstvo, ali mu je primena u praksi ograničen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ko se rastvara u alkoholu, a loše u vod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aktičnu primenu ima jodna tinktura (jod u obliku kalijum jodida rastvoren u etil alkoholu). Jodna tinktura (2%-5%) se upotrebljava za dezinfekciju kože (operativno polje, okolina rane i s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toje preporuke izvesnih autora da se neki preparati joda mogu koristiti za dezinfekciju vode u borbi protiv amebijaze</a:t>
            </a:r>
            <a:r>
              <a:rPr b="0" lang="en-GB"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 name="Rectangle 4"/>
          <p:cNvSpPr/>
          <p:nvPr/>
        </p:nvSpPr>
        <p:spPr>
          <a:xfrm>
            <a:off x="0" y="208440"/>
            <a:ext cx="896472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filaktička dezinfekcija</a:t>
            </a:r>
            <a:r>
              <a:rPr b="0" lang="en-GB" sz="2400" spc="-1" strike="noStrike">
                <a:solidFill>
                  <a:srgbClr val="000000"/>
                </a:solidFill>
                <a:latin typeface="Arial"/>
              </a:rPr>
              <a:t> </a:t>
            </a:r>
            <a:r>
              <a:rPr b="0" lang="sr-Latn-CS" sz="2400" spc="-1" strike="noStrike">
                <a:solidFill>
                  <a:srgbClr val="000000"/>
                </a:solidFill>
                <a:latin typeface="Arial"/>
              </a:rPr>
              <a:t>-</a:t>
            </a:r>
            <a:r>
              <a:rPr b="0" lang="en-GB" sz="2400" spc="-1" strike="noStrike">
                <a:solidFill>
                  <a:srgbClr val="000000"/>
                </a:solidFill>
                <a:latin typeface="Arial"/>
              </a:rPr>
              <a:t> nema žarišta infekcije, ali postoje uslovi i opasnost za pojavu i širenje bolest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N</a:t>
            </a:r>
            <a:r>
              <a:rPr b="0" lang="en-GB" sz="2400" spc="-1" strike="noStrike">
                <a:solidFill>
                  <a:srgbClr val="000000"/>
                </a:solidFill>
                <a:latin typeface="Arial"/>
              </a:rPr>
              <a:t>ajčešće korišćene me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rovodi se gotovo svakodnevno po odredjenom plan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jznačajnije mesto u profilaktičkoj dezinfekciji zauzima dezinfekcija u </a:t>
            </a:r>
            <a:r>
              <a:rPr b="0" i="1" lang="en-GB" sz="2400" spc="-1" strike="noStrike" u="sng">
                <a:solidFill>
                  <a:srgbClr val="000000"/>
                </a:solidFill>
                <a:uFillTx/>
                <a:latin typeface="Arial"/>
              </a:rPr>
              <a:t>zdravstvenim ustanovama</a:t>
            </a:r>
            <a:r>
              <a:rPr b="0" lang="en-GB" sz="2400" spc="-1" strike="noStrike">
                <a:solidFill>
                  <a:srgbClr val="000000"/>
                </a:solidFill>
                <a:latin typeface="Arial"/>
              </a:rPr>
              <a:t> (dezinfekcije instrumenata, radnih površina, svih bolesničkih lučevina, izlučina, ličnih i drugih predmeta, pranje ruku) u </a:t>
            </a:r>
            <a:r>
              <a:rPr b="0" i="1" lang="en-GB" sz="2400" spc="-1" strike="noStrike" u="sng">
                <a:solidFill>
                  <a:srgbClr val="000000"/>
                </a:solidFill>
                <a:uFillTx/>
                <a:latin typeface="Arial"/>
              </a:rPr>
              <a:t>objektima za proizvodnju i promet životnim namirnicama, prehrambenoj industriji, javnim objektima</a:t>
            </a:r>
            <a:r>
              <a:rPr b="0" lang="en-GB" sz="2400" spc="-1" strike="noStrike">
                <a:solidFill>
                  <a:srgbClr val="000000"/>
                </a:solidFill>
                <a:latin typeface="Arial"/>
              </a:rPr>
              <a:t> (škole i druge ustanove za decu i omladinu i stara lica)  i </a:t>
            </a:r>
            <a:r>
              <a:rPr b="0" i="1" lang="en-GB" sz="2400" spc="-1" strike="noStrike">
                <a:solidFill>
                  <a:srgbClr val="000000"/>
                </a:solidFill>
                <a:latin typeface="Arial"/>
              </a:rPr>
              <a:t>na javnim mestima</a:t>
            </a:r>
            <a:r>
              <a:rPr b="0" lang="en-GB" sz="2400" spc="-1" strike="noStrike">
                <a:solidFill>
                  <a:srgbClr val="000000"/>
                </a:solidFill>
                <a:latin typeface="Arial"/>
              </a:rPr>
              <a:t> gde boravi veliki broj ljud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4"/>
          <p:cNvSpPr/>
          <p:nvPr/>
        </p:nvSpPr>
        <p:spPr>
          <a:xfrm>
            <a:off x="0" y="148680"/>
            <a:ext cx="9144000" cy="667764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romatična jedinjenja</a:t>
            </a:r>
            <a:r>
              <a:rPr b="0" lang="en-GB" sz="2400" spc="-1" strike="noStrike">
                <a:solidFill>
                  <a:srgbClr val="000000"/>
                </a:solidFill>
                <a:latin typeface="Arial"/>
              </a:rPr>
              <a:t> - imaju izraženo baktericidno i fungicidno delovanje. Osnovno jezgro im čini benzol. Ne oštećuju tkanine i metale i ne menjaju boj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enol</a:t>
            </a:r>
            <a:r>
              <a:rPr b="0" lang="en-GB" sz="2400" spc="-1" strike="noStrike">
                <a:solidFill>
                  <a:srgbClr val="000000"/>
                </a:solidFill>
                <a:latin typeface="Arial"/>
              </a:rPr>
              <a:t> (karbolna kiselina)  je efikasno dezinfekciono sredstvo, čije je dejstvo najbolje u toplom rastvoru. Ima prodoran i neprijatan miris. Slabo se rastvara u vodi, a lako u alkoholu, glicerinu, mastima i etru, a u vodi naročito hladnoj veoma teško. Otrovan je i deluje nadražajno na kožu. Koristi se za dezinfekciju fekalija, ispljuvka, sanitarnih uredjaja, podova i d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jedinjavanjem fenola i sapuna </a:t>
            </a:r>
            <a:r>
              <a:rPr b="0" lang="sr-Latn-CS" sz="2400" spc="-1" strike="noStrike">
                <a:solidFill>
                  <a:srgbClr val="000000"/>
                </a:solidFill>
                <a:latin typeface="Arial"/>
              </a:rPr>
              <a:t>-</a:t>
            </a:r>
            <a:r>
              <a:rPr b="0" lang="en-GB" sz="2400" spc="-1" strike="noStrike">
                <a:solidFill>
                  <a:srgbClr val="000000"/>
                </a:solidFill>
                <a:latin typeface="Arial"/>
              </a:rPr>
              <a:t> karbolna sapunica. Na ovaj način se smanjuje baktericidno delovanje, ali se povećava prodornost rastvo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nas se koriste derivati fenola, takozvani polifenoli koji se koriste u mešavini s alkohol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285840" y="1428840"/>
            <a:ext cx="8501040" cy="43599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rezol</a:t>
            </a:r>
            <a:r>
              <a:rPr b="0" lang="en-GB" sz="2800" spc="-1" strike="noStrike">
                <a:solidFill>
                  <a:srgbClr val="000000"/>
                </a:solidFill>
                <a:latin typeface="Arial"/>
              </a:rPr>
              <a:t> je derivat fenola. Najčešće se koristio za dezinfekciju odeće, rublja, krzna, kože, vune, sekreta, nužnika, namešta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izol</a:t>
            </a:r>
            <a:r>
              <a:rPr b="0" lang="en-GB" sz="2800" spc="-1" strike="noStrike">
                <a:solidFill>
                  <a:srgbClr val="000000"/>
                </a:solidFill>
                <a:latin typeface="Arial"/>
              </a:rPr>
              <a:t> (krezolna sapunica) se dobija mešanjem jednakih rastvora krezola i kalijumovog sapuna. I pored toga što je dobar dezinficijens, zbog izuzetne toksičnosti </a:t>
            </a:r>
            <a:r>
              <a:rPr b="0" lang="sr-Latn-CS" sz="2800" spc="-1" strike="noStrike">
                <a:solidFill>
                  <a:srgbClr val="000000"/>
                </a:solidFill>
                <a:latin typeface="Arial"/>
              </a:rPr>
              <a:t>ne koristi s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ZABRANJENI SU ZA UPOTREB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0" y="1658160"/>
            <a:ext cx="9144000" cy="338580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                                             </a:t>
            </a:r>
            <a:r>
              <a:rPr b="1" lang="en-GB" sz="2400" spc="-1" strike="noStrike">
                <a:solidFill>
                  <a:srgbClr val="000000"/>
                </a:solidFill>
                <a:latin typeface="Arial"/>
              </a:rPr>
              <a:t>Aldehidi</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maldehid</a:t>
            </a:r>
            <a:r>
              <a:rPr b="0" lang="en-GB" sz="2400" spc="-1" strike="noStrike">
                <a:solidFill>
                  <a:srgbClr val="000000"/>
                </a:solidFill>
                <a:latin typeface="Arial"/>
              </a:rPr>
              <a:t> je gas bez boje, specifičnog oštrog mirisa koji draži sluzokožu nosa i očiju. Lako se rastvara u vodi. Vodeni rastvor formaldehida poznat pod imenom formalin ima veliku primenu kao dezinfekciono sredstvo.  To je 35%-40% rastvor formaldehida, koji sadrži još i 10%-20% metilalkohola i nešto malo mravlje kiseline. Formalin ima dobro i virocidno i fungicidno dejstv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214200" y="357120"/>
            <a:ext cx="8715600" cy="5946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zinfekciona moć zavisi od temperature, prisustva organskih materija i naročito od relativne vlažnosti vazduha. Stajanjem na svetlosti i na nižim temperaturama taloži se i gubi dezinfekcionu moć. Zato ga treba čuvati u dobro zatvorenim tamnim sudovima i na suvom mest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bra osobina formalina je ta, što ne nagriza metalne predmete i materijale od vune i pamuka. Nepodesan je za dezinfekciju kožnih predme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a dezinfekciju se upotrebljava kao vodeni rastvor i kao para. Nema prodornu moć, već deluje samo površinsk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sna dezinfekcija formalinom koristi se za dezinfekciju prostorija kod kapljičnih zaraznih bolesti. Formalinske pare se dobijaju upotrebom specijalnih aparata (Fl</a:t>
            </a:r>
            <a:r>
              <a:rPr b="0" lang="sr-Latn-CS" sz="2400" spc="-1" strike="noStrike">
                <a:solidFill>
                  <a:srgbClr val="000000"/>
                </a:solidFill>
                <a:latin typeface="Arial"/>
              </a:rPr>
              <a:t>i</a:t>
            </a:r>
            <a:r>
              <a:rPr b="0" lang="en-GB" sz="2400" spc="-1" strike="noStrike">
                <a:solidFill>
                  <a:srgbClr val="000000"/>
                </a:solidFill>
                <a:latin typeface="Arial"/>
              </a:rPr>
              <a:t>gge i d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0" y="595440"/>
            <a:ext cx="9144000" cy="521460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ovršinski aktivna sredstva</a:t>
            </a:r>
            <a:r>
              <a:rPr b="0" lang="en-GB" sz="2400" spc="-1" strike="noStrike">
                <a:solidFill>
                  <a:srgbClr val="000000"/>
                </a:solidFill>
                <a:latin typeface="Arial"/>
              </a:rPr>
              <a:t> (Katjonska i anjonska površinski aktivna sredstva, deterdženti i d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vršinski aktivnim sredstvima  nazivaju se ona hemijska jedinjenja, koja smanjuju površinski napon datih rastvora, najčešće vodenih. Nazivaju ih i jedinjenjima na bazi kvaternih amonijak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va sredstva nalaze široku primenu u dezinfekcionoj praksi, pošto deluju u malim koncentracijama, te ne oštećuju tkanine, boje, kožu i dr. Ovi preparati deluju i m</a:t>
            </a:r>
            <a:r>
              <a:rPr b="0" lang="sr-Latn-CS" sz="2400" spc="-1" strike="noStrike">
                <a:solidFill>
                  <a:srgbClr val="000000"/>
                </a:solidFill>
                <a:latin typeface="Arial"/>
              </a:rPr>
              <a:t>e</a:t>
            </a:r>
            <a:r>
              <a:rPr b="0" lang="en-GB" sz="2400" spc="-1" strike="noStrike">
                <a:solidFill>
                  <a:srgbClr val="000000"/>
                </a:solidFill>
                <a:latin typeface="Arial"/>
              </a:rPr>
              <a:t>hanički otklanjajući nečistoću i masnoću sa površine predmeta. Treba ih uvek primenjivati u propisanim koncentracijama i količinam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214200" y="1582560"/>
            <a:ext cx="8715600" cy="41173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 poslednje vreme se primenjuju i tzv. amfotenzidi -  amfolitična jedinjenja koja se u kiselim rastvorima ponašaju kao baze, a u alkalnim sredinama kao kiselin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 površinama koje su dezinfikovane hvataju se kao tanak film i nemoguća je rekontaminacija. Pored baktericidnog imaju i fungicidni efek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posredno oksidirajuća sredstva deluju tako što oslobadjajući kiseonik, koji oksidacijom uništava mikroorganizme. </a:t>
            </a:r>
            <a:r>
              <a:rPr b="0" lang="sr-Latn-C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a:t>
            </a:r>
            <a:r>
              <a:rPr b="0" lang="en-GB" sz="2400" spc="-1" strike="noStrike">
                <a:solidFill>
                  <a:srgbClr val="000000"/>
                </a:solidFill>
                <a:latin typeface="Arial"/>
              </a:rPr>
              <a:t> kalijumpermanganat, vodonikperoksid i ozon</a:t>
            </a:r>
            <a:r>
              <a:rPr b="0" lang="sr-Latn-C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214200" y="595440"/>
            <a:ext cx="8713800" cy="521460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alijumpermanganat</a:t>
            </a:r>
            <a:r>
              <a:rPr b="0" lang="en-GB" sz="2400" spc="-1" strike="noStrike">
                <a:solidFill>
                  <a:srgbClr val="000000"/>
                </a:solidFill>
                <a:latin typeface="Arial"/>
              </a:rPr>
              <a:t> (hipermangan) je efikasan samo površinsk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potreba mu je ograničena jer boji neke materije i oštećuje metalne predmete. Koristi se uglavnom u medicini (dezinfekcija rana, ispiranje grla i ust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su tamni ili crvenoljubičasti kristali sa metalnim sjajem. Rastvaraju se u vodi dajući joj purpurnu boj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 vanrednim uslovima u nedostatku drugih dezinficijenasa kalijumpermanganat se može koristiti za dezinfekciju vode za pić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
          <p:cNvSpPr/>
          <p:nvPr/>
        </p:nvSpPr>
        <p:spPr>
          <a:xfrm>
            <a:off x="142920" y="500040"/>
            <a:ext cx="8715240" cy="52131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Vodonik peroksid</a:t>
            </a:r>
            <a:r>
              <a:rPr b="0" lang="en-GB" sz="2800" spc="-1" strike="noStrike">
                <a:solidFill>
                  <a:srgbClr val="000000"/>
                </a:solidFill>
                <a:latin typeface="Arial"/>
              </a:rPr>
              <a:t> (hidrogen) je veoma jako oksidativno sredstvo, koje se koristi kao 3% rastvor za ispiranje ran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uje oslobadjanjem kiseonika, a stvorena pena za sobom povlači prljavštinu, deliće tkiva, gnoj.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jstvo mu je kratkotrajno i prestaje čim se sav kiseonik oslobod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zon</a:t>
            </a:r>
            <a:r>
              <a:rPr b="0" lang="en-GB" sz="2800" spc="-1" strike="noStrike">
                <a:solidFill>
                  <a:srgbClr val="000000"/>
                </a:solidFill>
                <a:latin typeface="Arial"/>
              </a:rPr>
              <a:t> - se najčešće koristi za dezinfekciju vode i prostorija, otklanjanje neprijatnog mirisa i popravljan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kusa vode za pić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428760" y="1500120"/>
            <a:ext cx="8286480" cy="39333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 profilaktičku dezinfekciju se ubraja i </a:t>
            </a:r>
            <a:r>
              <a:rPr b="0" i="1" lang="en-GB" sz="2800" spc="-1" strike="noStrike" u="sng">
                <a:solidFill>
                  <a:srgbClr val="000000"/>
                </a:solidFill>
                <a:uFillTx/>
                <a:latin typeface="Arial"/>
              </a:rPr>
              <a:t>sistematska dezinfekcija</a:t>
            </a:r>
            <a:r>
              <a:rPr b="0" lang="en-GB" sz="2800" spc="-1" strike="noStrike">
                <a:solidFill>
                  <a:srgbClr val="000000"/>
                </a:solidFill>
                <a:latin typeface="Arial"/>
              </a:rPr>
              <a:t> vode za piće (hlorisanje vode), </a:t>
            </a:r>
            <a:r>
              <a:rPr b="0" i="1" lang="en-GB" sz="2800" spc="-1" strike="noStrike" u="sng">
                <a:solidFill>
                  <a:srgbClr val="000000"/>
                </a:solidFill>
                <a:uFillTx/>
                <a:latin typeface="Arial"/>
              </a:rPr>
              <a:t>pasterizacija</a:t>
            </a:r>
            <a:r>
              <a:rPr b="0" lang="en-GB" sz="2800" spc="-1" strike="noStrike">
                <a:solidFill>
                  <a:srgbClr val="000000"/>
                </a:solidFill>
                <a:latin typeface="Arial"/>
              </a:rPr>
              <a:t> mleka i drugih životnih namirnica, dezinfekcija djubrišta, javnih nužnika, raznih otpadaka i d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u="sng">
                <a:solidFill>
                  <a:srgbClr val="000000"/>
                </a:solidFill>
                <a:uFillTx/>
                <a:latin typeface="Arial"/>
              </a:rPr>
              <a:t>Sterilizacija</a:t>
            </a:r>
            <a:r>
              <a:rPr b="0" lang="en-GB" sz="2800" spc="-1" strike="noStrike">
                <a:solidFill>
                  <a:srgbClr val="000000"/>
                </a:solidFill>
                <a:latin typeface="Arial"/>
              </a:rPr>
              <a:t> medicinskih instrumenata, zavojnog materijala, sterilizacija vazduha u hirurškim salama, </a:t>
            </a:r>
            <a:r>
              <a:rPr b="0" lang="sr-Latn-CS" sz="2800" spc="-1" strike="noStrike">
                <a:solidFill>
                  <a:srgbClr val="000000"/>
                </a:solidFill>
                <a:latin typeface="Arial"/>
              </a:rPr>
              <a:t>JIN</a:t>
            </a:r>
            <a:r>
              <a:rPr b="0" lang="en-GB" sz="2800" spc="-1" strike="noStrike">
                <a:solidFill>
                  <a:srgbClr val="000000"/>
                </a:solidFill>
                <a:latin typeface="Arial"/>
              </a:rPr>
              <a:t>,virusološkim lab</a:t>
            </a:r>
            <a:r>
              <a:rPr b="0" lang="sr-Latn-CS" sz="2800" spc="-1" strike="noStrike">
                <a:solidFill>
                  <a:srgbClr val="000000"/>
                </a:solidFill>
                <a:latin typeface="Arial"/>
              </a:rPr>
              <a:t>.</a:t>
            </a:r>
            <a:r>
              <a:rPr b="0" lang="en-GB" sz="2800" spc="-1" strike="noStrike">
                <a:solidFill>
                  <a:srgbClr val="000000"/>
                </a:solidFill>
                <a:latin typeface="Arial"/>
              </a:rPr>
              <a:t>i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
          <p:cNvSpPr/>
          <p:nvPr/>
        </p:nvSpPr>
        <p:spPr>
          <a:xfrm>
            <a:off x="285840" y="386280"/>
            <a:ext cx="8640720" cy="606636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Žarišna dezinfekcija</a:t>
            </a:r>
            <a:r>
              <a:rPr b="0" lang="en-GB" sz="2800" spc="-1" strike="noStrike">
                <a:solidFill>
                  <a:srgbClr val="000000"/>
                </a:solidFill>
                <a:latin typeface="Arial"/>
              </a:rPr>
              <a:t> se sprovodi u žarištu infekcije. S obzirom na vreme kada se sprovodi ona može biti: tekuća i završn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ekuća</a:t>
            </a:r>
            <a:r>
              <a:rPr b="0" lang="en-GB" sz="2800" spc="-1" strike="noStrike">
                <a:solidFill>
                  <a:srgbClr val="000000"/>
                </a:solidFill>
                <a:latin typeface="Arial"/>
              </a:rPr>
              <a:t> dezinfekcija se sprovodi u neposrednoj blizini obolelog za sve vreme bolesti, od momenta postavljanja dijagnoze. O sprovodjenju ove mere treba da brine lekar, koji mora da da uputstva ukućanima koji neguju obolelog, odnosno zdravstvenim radnicima ukoliko se radi o hospitalizovanom bolesniku. Ovo podrazumeva detaljno objašnjenje šta i kako treba raditi u konkretnom slučaj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571680" y="1857240"/>
            <a:ext cx="7929360" cy="26535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Završna</a:t>
            </a:r>
            <a:r>
              <a:rPr b="0" lang="en-GB" sz="2800" spc="-1" strike="noStrike">
                <a:solidFill>
                  <a:srgbClr val="000000"/>
                </a:solidFill>
                <a:latin typeface="Arial"/>
              </a:rPr>
              <a:t> dezinfekcija bi bila samo krajnja etapa ili završetak tekuće dezinfekci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koliko se tekuća dezinfekcija brižljivo i potpuno sprovodila utoliko će sprovodjenje završne dezinfekcije biti olakša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468360" y="646200"/>
            <a:ext cx="8280360" cy="563976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etode dezinfekcij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Za dezinfekciju mogu da se koriste različita sredstva, u zavisnosti od vremena kojim se raspolaže, mesta gde se vrši, kao i uslova spoljne sredine. Ova sredstva se mogu primeniti pojedinačno ili kombinovano. U zavisnosti od sredstva koje se koristi usvojeno je postojanje sledećih metod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 mehaničk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 fizička 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v) hemijsk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U praksi se retko kad koristi jedna metoda, već se najčešće kombinuju dve ili viš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4"/>
          <p:cNvSpPr/>
          <p:nvPr/>
        </p:nvSpPr>
        <p:spPr>
          <a:xfrm>
            <a:off x="285840" y="600480"/>
            <a:ext cx="8642160" cy="606636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r>
              <a:rPr b="1" lang="en-GB" sz="2800" spc="-1" strike="noStrike">
                <a:solidFill>
                  <a:srgbClr val="000000"/>
                </a:solidFill>
                <a:latin typeface="Arial"/>
              </a:rPr>
              <a:t>Mehaničke metode dezinfekcij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hanička metoda obuhvata: mehaničko čišćenje, ventilaciju i filtraciju. Kod ove metode mikroorganizmi se najčešće ne uništavaju, već samo odvajaju sa površine koja se dezinfiku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djutim, samo mehaničko uklanjanje mikroorgan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ama nije dovoljno, jer do infekcije može doći uprkos smanjenju broja mikroorganizama. Zato ovu metodu treba primenjivati uvek u kombinaciji sa ostalim metodama dezinfekcije, fizičkom i hemijskom., tj. ova metoda može poslužiti u pripremi materijala za primenu fizičkih ili hemijskih metoda dezinfekcij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275400" y="35280"/>
            <a:ext cx="8894880" cy="734616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zička metoda dezinfekcij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Za primenu ove metode koriste se sledeća sredstv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Zračenj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a) ultravioletni zrac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b) ultrazvuk</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v) jonizujuće zračenj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g) druga zračenja (sunčevo svetlo i d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sušenje (sušenj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recipitacija i sedimentacij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emperatur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a) niska temperatura (hladnoća, zamrzavanj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b) visoka temperatur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suva toplot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vlažna toplot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22:41:54Z</dcterms:created>
  <dc:creator>Bratislav Tiodorovic</dc:creator>
  <dc:description/>
  <dc:language>en-US</dc:language>
  <cp:lastModifiedBy>Bratislav Tiodorovic</cp:lastModifiedBy>
  <dcterms:modified xsi:type="dcterms:W3CDTF">2010-10-19T19:49:24Z</dcterms:modified>
  <cp:revision>7</cp:revision>
  <dc:subject/>
  <dc:title>Slide 1</dc:title>
</cp:coreProperties>
</file>